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1CAC-C1C6-4235-9B70-03D6F878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8CB-EB94-4EC0-817B-74DFA9AC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8D65-781C-4DC5-B4CA-76CD0A4E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B9FF-033F-491E-988E-796EAFB0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F94-F15C-4887-B131-0B57F861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771-217F-4A06-A29F-9DE94A96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D1E-1C43-4B8C-AA18-EDEC3ABC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45B0-87ED-4C0B-A6E6-6BE62954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1EC1-B0BF-4FDB-B0A8-55A28535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6AD-2496-4D72-9ACF-0AA95522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B12A-0114-4AF6-987E-C0DA4DCA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9B4-C6A8-498F-8DD6-B8AC8DB1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4349-1690-49CB-823C-FF592D85CF29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AIRO 2010"/>
          <p:cNvPicPr/>
          <p:nvPr/>
        </p:nvPicPr>
        <p:blipFill>
          <a:blip r:embed="rId1"/>
          <a:stretch/>
        </p:blipFill>
        <p:spPr>
          <a:xfrm>
            <a:off x="250920" y="1773360"/>
            <a:ext cx="8893080" cy="3708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64072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l-GR" sz="4400" spc="-1" strike="noStrike">
                <a:solidFill>
                  <a:srgbClr val="e5ffff"/>
                </a:solidFill>
                <a:latin typeface="Tahoma"/>
              </a:rPr>
              <a:t>β</a:t>
            </a:r>
            <a:r>
              <a:rPr b="1" i="1" lang="it-IT" sz="4400" spc="-1" strike="noStrike">
                <a:solidFill>
                  <a:srgbClr val="e5ffff"/>
                </a:solidFill>
                <a:latin typeface="Tahoma"/>
              </a:rPr>
              <a:t>-catenina e Gli1 come marcatori prognostici nel Glioblastoma</a:t>
            </a:r>
            <a:r>
              <a:rPr b="1" i="1" lang="it-IT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3860640"/>
            <a:ext cx="896472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M. Rossi, L. Magnoni, 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Tahoma"/>
              </a:rPr>
              <a:t>P. Tini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, E. Mori, P.Tosi, G. Oliveri, E. Cosci, L. Pirtoli, C. Miracco, A. Bakk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i="1" lang="it-IT" sz="2400" spc="-1" strike="noStrike">
                <a:solidFill>
                  <a:srgbClr val="ffffff"/>
                </a:solidFill>
                <a:latin typeface="Tahoma"/>
              </a:rPr>
              <a:t>Università degli Studi di Siena -Siena Biotech S.p.A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ahoma"/>
              </a:rPr>
              <a:t>AIRO Napoli 13-16 Novembre 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7" descr="logo_siena"/>
          <p:cNvPicPr/>
          <p:nvPr/>
        </p:nvPicPr>
        <p:blipFill>
          <a:blip r:embed="rId2"/>
          <a:stretch/>
        </p:blipFill>
        <p:spPr>
          <a:xfrm>
            <a:off x="5364000" y="692280"/>
            <a:ext cx="2232360" cy="53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unisi"/>
          <p:cNvPicPr/>
          <p:nvPr/>
        </p:nvPicPr>
        <p:blipFill>
          <a:blip r:embed="rId3"/>
          <a:stretch/>
        </p:blipFill>
        <p:spPr>
          <a:xfrm>
            <a:off x="2411280" y="260280"/>
            <a:ext cx="1062000" cy="12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Risulta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Sopravvivenza globale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(mediana di 12 mesi) con una sopravvivenza del 10% a 2 anni e 2% a 3 an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ottogruppo “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terapia ottimale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” con mediana 19.5 mesi vs sottogruppo “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terapia non-ottimale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” mediana 7 mesi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p&lt; 0.05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Immunoistochimica </a:t>
            </a:r>
            <a:r>
              <a:rPr b="0" lang="el-GR" sz="2400" spc="-1" strike="noStrike">
                <a:solidFill>
                  <a:srgbClr val="ffff00"/>
                </a:solidFill>
                <a:latin typeface="Tahoma"/>
              </a:rPr>
              <a:t>β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-catenina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: quasi tutti i casi sono risultati positivi (con positività da moderata a forte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Immunoistochimica Gli1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:positività in 80 casi sui 106 esaminati, di solito meno intensa di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-catenina e prevalentemente nei campioni prelevati alla periferia del tumo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Risulta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51280" y="1980720"/>
            <a:ext cx="349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E’ stata calcolata una matrice di correlazione con l’obiettivo di identificare i marcatori più rappresentativi in termini di sopravvivenza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Tahoma"/>
              </a:rPr>
              <a:t>p53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: non sembra correlarsi alla sopravvivenz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Tahoma"/>
              </a:rPr>
              <a:t>Ki-67, positività di EGFR e l’età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: hanno un debole valore prognostic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Tahoma"/>
              </a:rPr>
              <a:t>I valori di </a:t>
            </a:r>
            <a:r>
              <a:rPr b="0" lang="el-GR" sz="1200" spc="-1" strike="noStrike">
                <a:solidFill>
                  <a:srgbClr val="ffff00"/>
                </a:solidFill>
                <a:latin typeface="Tahoma"/>
              </a:rPr>
              <a:t>β</a:t>
            </a:r>
            <a:r>
              <a:rPr b="0" lang="it-IT" sz="1200" spc="-1" strike="noStrike">
                <a:solidFill>
                  <a:srgbClr val="ffff00"/>
                </a:solidFill>
                <a:latin typeface="Tahoma"/>
              </a:rPr>
              <a:t>-catenina totale e Gli1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:    mostrano una </a:t>
            </a:r>
            <a:r>
              <a:rPr b="0" lang="it-IT" sz="1200" spc="-1" strike="noStrike">
                <a:solidFill>
                  <a:srgbClr val="ff3300"/>
                </a:solidFill>
                <a:latin typeface="Tahoma"/>
              </a:rPr>
              <a:t>forte correlazione inversa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con la sopravvivenz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i="1" lang="it-IT" sz="1200" spc="-1" strike="noStrike">
                <a:solidFill>
                  <a:srgbClr val="ffffff"/>
                </a:solidFill>
                <a:latin typeface="Tahoma"/>
              </a:rPr>
              <a:t>coeff di correlazione ≤-0,65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Tahoma"/>
              </a:rPr>
              <a:t>La </a:t>
            </a:r>
            <a:r>
              <a:rPr b="0" lang="el-GR" sz="1200" spc="-1" strike="noStrike">
                <a:solidFill>
                  <a:srgbClr val="ffff00"/>
                </a:solidFill>
                <a:latin typeface="Tahoma"/>
              </a:rPr>
              <a:t>β</a:t>
            </a:r>
            <a:r>
              <a:rPr b="0" lang="it-IT" sz="1200" spc="-1" strike="noStrike">
                <a:solidFill>
                  <a:srgbClr val="ffff00"/>
                </a:solidFill>
                <a:latin typeface="Tahoma"/>
              </a:rPr>
              <a:t>-catenina citoplasmatica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e l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l-GR" sz="1200" spc="-1" strike="noStrike">
                <a:solidFill>
                  <a:srgbClr val="ffff00"/>
                </a:solidFill>
                <a:latin typeface="Tahoma"/>
              </a:rPr>
              <a:t>β</a:t>
            </a:r>
            <a:r>
              <a:rPr b="0" lang="it-IT" sz="1200" spc="-1" strike="noStrike">
                <a:solidFill>
                  <a:srgbClr val="ffff00"/>
                </a:solidFill>
                <a:latin typeface="Tahoma"/>
              </a:rPr>
              <a:t>-catenina nucleare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mostrano una </a:t>
            </a:r>
            <a:r>
              <a:rPr b="0" lang="it-IT" sz="1200" spc="-1" strike="noStrike">
                <a:solidFill>
                  <a:srgbClr val="ff3300"/>
                </a:solidFill>
                <a:latin typeface="Tahoma"/>
              </a:rPr>
              <a:t>buona correlazione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con la sopravvivenz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i="1" lang="it-IT" sz="1200" spc="-1" strike="noStrike">
                <a:solidFill>
                  <a:srgbClr val="ffffff"/>
                </a:solidFill>
                <a:latin typeface="Tahoma"/>
              </a:rPr>
              <a:t>coeff di correlazione ≤ -0.5</a:t>
            </a:r>
            <a:r>
              <a:rPr b="1" i="1" lang="it-IT" sz="1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14" descr="Correlation"/>
          <p:cNvPicPr/>
          <p:nvPr/>
        </p:nvPicPr>
        <p:blipFill>
          <a:blip r:embed="rId1"/>
          <a:stretch/>
        </p:blipFill>
        <p:spPr>
          <a:xfrm>
            <a:off x="457200" y="1763640"/>
            <a:ext cx="5194440" cy="4186440"/>
          </a:xfrm>
          <a:prstGeom prst="rect">
            <a:avLst/>
          </a:prstGeom>
          <a:ln w="0">
            <a:noFill/>
          </a:ln>
        </p:spPr>
      </p:pic>
      <p:sp>
        <p:nvSpPr>
          <p:cNvPr id="70" name="Line 15"/>
          <p:cNvSpPr/>
          <p:nvPr/>
        </p:nvSpPr>
        <p:spPr>
          <a:xfrm flipH="1" flipV="1">
            <a:off x="5076360" y="2421000"/>
            <a:ext cx="14292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Line 16"/>
          <p:cNvSpPr/>
          <p:nvPr/>
        </p:nvSpPr>
        <p:spPr>
          <a:xfrm>
            <a:off x="2771640" y="2205000"/>
            <a:ext cx="3240360" cy="50328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Line 17"/>
          <p:cNvSpPr/>
          <p:nvPr/>
        </p:nvSpPr>
        <p:spPr>
          <a:xfrm>
            <a:off x="2195640" y="2349360"/>
            <a:ext cx="3816360" cy="86364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1763640" y="1989000"/>
            <a:ext cx="863640" cy="360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1403280" y="3213000"/>
            <a:ext cx="504720" cy="1440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1908000" y="3789360"/>
            <a:ext cx="403236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5292720" y="3789360"/>
            <a:ext cx="647640" cy="1008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Risulta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8" descr="5---NEW-Gli1&amp;bCatTotA vs Survival"/>
          <p:cNvPicPr/>
          <p:nvPr/>
        </p:nvPicPr>
        <p:blipFill>
          <a:blip r:embed="rId1"/>
          <a:stretch/>
        </p:blipFill>
        <p:spPr>
          <a:xfrm>
            <a:off x="1619280" y="1792440"/>
            <a:ext cx="5832360" cy="49734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4788000" y="1916280"/>
            <a:ext cx="431640" cy="2887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Oval 13"/>
          <p:cNvSpPr/>
          <p:nvPr/>
        </p:nvSpPr>
        <p:spPr>
          <a:xfrm>
            <a:off x="4788000" y="4221000"/>
            <a:ext cx="431640" cy="2890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Risulta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it-IT" sz="2800" spc="-1" strike="noStrike">
                <a:solidFill>
                  <a:srgbClr val="ff3300"/>
                </a:solidFill>
                <a:latin typeface="Tahoma"/>
              </a:rPr>
              <a:t>Validità dei modelli predittiv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Modello di regressione linear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: non sembra fittare adeguatamente il trend dei dati in es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Modello di classificazione ad alber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(più flessibile rispetto al precedente): mostra una notevole capacità predittiva, identificando mediante una RPA (recursive partitioning analysis) , i principali fattori prognostic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Risulta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Gli1 e </a:t>
            </a:r>
            <a:r>
              <a:rPr b="0" lang="el-GR" sz="2000" spc="-1" strike="noStrike">
                <a:solidFill>
                  <a:srgbClr val="ffff00"/>
                </a:solidFill>
                <a:latin typeface="Tahoma"/>
              </a:rPr>
              <a:t>β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-catenina totale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: principali markers prognostici tra quelli analizzati sono infatti presenti nel </a:t>
            </a:r>
            <a:r>
              <a:rPr b="1" lang="it-IT" sz="2000" spc="-1" strike="noStrike" u="sng">
                <a:solidFill>
                  <a:srgbClr val="ff3300"/>
                </a:solidFill>
                <a:uFillTx/>
                <a:latin typeface="Tahoma"/>
              </a:rPr>
              <a:t>90%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e  </a:t>
            </a:r>
            <a:r>
              <a:rPr b="1" lang="it-IT" sz="2000" spc="-1" strike="noStrike" u="sng">
                <a:solidFill>
                  <a:srgbClr val="ff3300"/>
                </a:solidFill>
                <a:uFillTx/>
                <a:latin typeface="Tahoma"/>
              </a:rPr>
              <a:t>75%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rispettivamente degli alberi di classificazione più altamente predittivi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EGFR ,p53, Ki-67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:presenti in meno del 3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Valori di cut-off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identificati per Gli1 (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percentuale di positività = 15%)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e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-catenina totale (valore =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35% di positività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) al di sopra dei quali si ha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una forte associazione con una prognosi inferiore ai 12 mesi ( pazienti short-surviv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6--SimulationBoxPlotPresentPercentageClassificationTree"/>
          <p:cNvPicPr/>
          <p:nvPr/>
        </p:nvPicPr>
        <p:blipFill>
          <a:blip r:embed="rId1"/>
          <a:stretch/>
        </p:blipFill>
        <p:spPr>
          <a:xfrm>
            <a:off x="179280" y="1197000"/>
            <a:ext cx="4254480" cy="306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7---SimulationBoxPlotCutValuesTreeRoot"/>
          <p:cNvPicPr/>
          <p:nvPr/>
        </p:nvPicPr>
        <p:blipFill>
          <a:blip r:embed="rId2"/>
          <a:stretch/>
        </p:blipFill>
        <p:spPr>
          <a:xfrm>
            <a:off x="4967280" y="1268280"/>
            <a:ext cx="4176720" cy="3024360"/>
          </a:xfrm>
          <a:prstGeom prst="rect">
            <a:avLst/>
          </a:prstGeom>
          <a:ln w="0">
            <a:noFill/>
          </a:ln>
        </p:spPr>
      </p:pic>
      <p:sp>
        <p:nvSpPr>
          <p:cNvPr id="90" name="Oval 9"/>
          <p:cNvSpPr/>
          <p:nvPr/>
        </p:nvSpPr>
        <p:spPr>
          <a:xfrm>
            <a:off x="6877080" y="3933720"/>
            <a:ext cx="28728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Oval 10"/>
          <p:cNvSpPr/>
          <p:nvPr/>
        </p:nvSpPr>
        <p:spPr>
          <a:xfrm>
            <a:off x="8244000" y="3933720"/>
            <a:ext cx="28728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Risulta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4437000"/>
            <a:ext cx="8569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00"/>
                </a:solidFill>
                <a:latin typeface="Tahoma"/>
              </a:rPr>
              <a:t>Non sembra esistere una correlazione statisticamente significativa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tra gli alti livelli espressivi di Gli1 e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-catenina totale e i 2 sottogruppi terapeutici adiuvanti (ottimale e sub-ottima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6" descr="Gli1vsSurvival-SiNoTerapia"/>
          <p:cNvPicPr/>
          <p:nvPr/>
        </p:nvPicPr>
        <p:blipFill>
          <a:blip r:embed="rId1"/>
          <a:stretch/>
        </p:blipFill>
        <p:spPr>
          <a:xfrm>
            <a:off x="250920" y="1413000"/>
            <a:ext cx="3744720" cy="2809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b-catvssurvival"/>
          <p:cNvPicPr/>
          <p:nvPr/>
        </p:nvPicPr>
        <p:blipFill>
          <a:blip r:embed="rId2"/>
          <a:stretch/>
        </p:blipFill>
        <p:spPr>
          <a:xfrm>
            <a:off x="4716360" y="1413000"/>
            <a:ext cx="3816360" cy="2808000"/>
          </a:xfrm>
          <a:prstGeom prst="rect">
            <a:avLst/>
          </a:prstGeom>
          <a:ln w="0">
            <a:noFill/>
          </a:ln>
        </p:spPr>
      </p:pic>
      <p:sp>
        <p:nvSpPr>
          <p:cNvPr id="96" name="Line 10"/>
          <p:cNvSpPr/>
          <p:nvPr/>
        </p:nvSpPr>
        <p:spPr>
          <a:xfrm>
            <a:off x="755640" y="3357720"/>
            <a:ext cx="287964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5219640" y="3141720"/>
            <a:ext cx="287964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Conclusion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507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Alti livelli di espressione per Gli 1 e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-catenina mostrano una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notevole capacità prognostica negativa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e sembrano agire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indipendentemente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da una terapia post-operatoria combinata più o meno aggressiv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Anche nel gruppo dei pazienti selezionati in cui è stata possibile una terapia ottimale e che hanno avuto una migliore sopravvivenza (mediana di sopravvivenza 19,5 mesi vs 7 mesi nel gruppo terapia  sub-ottimale), la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positività di </a:t>
            </a:r>
            <a:r>
              <a:rPr b="0" lang="el-GR" sz="1800" spc="-1" strike="noStrike">
                <a:solidFill>
                  <a:srgbClr val="ff3300"/>
                </a:solidFill>
                <a:latin typeface="Tahoma"/>
              </a:rPr>
              <a:t>β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-catenina e Gli 1 definisce, perciò, una caratterizzazione prognostica sfavorevole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E’ probabile che l’attivazione aberrante delle pathways quali Wnt e Hedgehog, indicati da alti livelli espressivi di Gli1 e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-catenina, </a:t>
            </a:r>
            <a:r>
              <a:rPr b="1" lang="it-IT" sz="1800" spc="-1" strike="noStrike" u="sng">
                <a:solidFill>
                  <a:srgbClr val="ff3300"/>
                </a:solidFill>
                <a:uFillTx/>
                <a:latin typeface="Tahoma"/>
              </a:rPr>
              <a:t>favorisca la sopravvivenza delle GSCCs e ciò si traduca in una maggiore aggressività e resistenza alle terapie convenzionali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Terapie capaci di agire selettivamente su questi pathways  potrebbero migliorare la prognosi dei pazienti affetti da GB 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Picture 4" descr="siena-luna"/>
          <p:cNvPicPr/>
          <p:nvPr/>
        </p:nvPicPr>
        <p:blipFill>
          <a:blip r:embed="rId1"/>
          <a:stretch/>
        </p:blipFill>
        <p:spPr>
          <a:xfrm>
            <a:off x="1476360" y="0"/>
            <a:ext cx="6337440" cy="6524640"/>
          </a:xfrm>
          <a:prstGeom prst="rect">
            <a:avLst/>
          </a:prstGeom>
          <a:ln w="0">
            <a:noFill/>
          </a:ln>
        </p:spPr>
      </p:pic>
      <p:sp>
        <p:nvSpPr>
          <p:cNvPr id="102" name="WordArt 7"/>
          <p:cNvSpPr txBox="1"/>
          <p:nvPr/>
        </p:nvSpPr>
        <p:spPr>
          <a:xfrm>
            <a:off x="2843280" y="4286160"/>
            <a:ext cx="45244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razie per l'attenzione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Premes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GB caratterizzato da una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prognosi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infausta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nonostante il miglioramento delle terapia integrata (RT e CH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Necessità di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comprensione dei meccanismi biologico-molecolari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alla base di questa resistenza terapeu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Non esistono attualmente markers biologici nel GB con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funzione prognostica inequivocabile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(EGFR, p53, Ki-67), eccezion fatta per la metilazione del promotore di MGM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Presenza di una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forte eterogeneità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cellulare intra- e inter-tumore nei G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La resistenza alla terapia e la cattiva prognosi sono probabilmente legate alla presenza di sottopopolazioni celllulari quali le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GSCCs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it-IT" sz="1800" spc="-1" strike="noStrike">
                <a:solidFill>
                  <a:srgbClr val="ffff00"/>
                </a:solidFill>
                <a:latin typeface="Tahoma"/>
              </a:rPr>
              <a:t>gliomas stem cancer cells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) con notevoli capacità di autorinnovamento  e resistenza celllulare agli agenti terapeutic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5ffff"/>
                </a:solidFill>
                <a:latin typeface="Tahoma"/>
              </a:rPr>
              <a:t>Premesse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Recenti studi evidenziano, nel GB, l’importanza di  pathways di segnale,quali :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Wnt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e 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Hedgehog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, che giocano un ruolo fondamentale nei processi di omeostasi e rinnovamento cellulare nelle GSCC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3300"/>
                </a:solidFill>
                <a:latin typeface="Tahoma"/>
              </a:rPr>
              <a:t>β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-catenina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: proteina multifunzionale  che nella sua forma libera agisce come fattore di trascrizione nella pathway Wnt che  sembra favorire lo sviluppo dei processi di motilità, crescita e capacità d’invasione tumoral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Gli1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: fattore di trascrizione il cui aumento dei livelli di espressione è associato ad un attivazione della pathway Hedgehog che regola la trascrizione di geni implicati nei processi di iniziazione tumorale, invasione e capacità metasta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L’aberrante attivazione di queste pathways, caratteristici per le GSCCs, e rappresentati dall’iperespressione di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-catenina e Gli1, potrebbe svolgere un ruolo fondamentale nella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determinazione delle caratteristiche di aggressività biologica, e di conseguenza, clinica nei GB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Scopo del lavo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Abbiamo valutato,  nella nostra casistica di GBs, la correlazione tra i livelli di espressione di questi </a:t>
            </a:r>
            <a:r>
              <a:rPr b="0" lang="it-IT" sz="3200" spc="-1" strike="noStrike">
                <a:solidFill>
                  <a:srgbClr val="ff3300"/>
                </a:solidFill>
                <a:latin typeface="Tahoma"/>
              </a:rPr>
              <a:t>due markers biologici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( </a:t>
            </a:r>
            <a:r>
              <a:rPr b="0" lang="el-GR" sz="3200" spc="-1" strike="noStrike">
                <a:solidFill>
                  <a:srgbClr val="ffff00"/>
                </a:solidFill>
                <a:latin typeface="Tahoma"/>
              </a:rPr>
              <a:t>β</a:t>
            </a:r>
            <a:r>
              <a:rPr b="0" lang="it-IT" sz="3200" spc="-1" strike="noStrike">
                <a:solidFill>
                  <a:srgbClr val="ffff00"/>
                </a:solidFill>
                <a:latin typeface="Tahoma"/>
              </a:rPr>
              <a:t>-catenina e Gli1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) , altri markers biologici “classici” quali p53, Ki-67 e EGFR, con la </a:t>
            </a:r>
            <a:r>
              <a:rPr b="0" lang="it-IT" sz="3200" spc="-1" strike="noStrike">
                <a:solidFill>
                  <a:srgbClr val="ff3300"/>
                </a:solidFill>
                <a:latin typeface="Tahoma"/>
              </a:rPr>
              <a:t>sopravvivenza complessiva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Materiali e metod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6979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Casistica composta da </a:t>
            </a:r>
            <a:r>
              <a:rPr b="0" lang="it-IT" sz="1600" spc="-1" strike="noStrike">
                <a:solidFill>
                  <a:srgbClr val="ffff00"/>
                </a:solidFill>
                <a:latin typeface="Tahoma"/>
              </a:rPr>
              <a:t>106 pazienti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sottoposti ad intervento chirurgico di asportazione della neoplasia (40 pz sottoposti a resezione totale vs e 66 pz a resezione parziale) e come </a:t>
            </a:r>
            <a:r>
              <a:rPr b="0" lang="it-IT" sz="1600" spc="-1" strike="noStrike">
                <a:solidFill>
                  <a:srgbClr val="ffff00"/>
                </a:solidFill>
                <a:latin typeface="Tahoma"/>
              </a:rPr>
              <a:t>terapia adiuvante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:  RT+CHT integrata (TMZ concomitante + sequenziale) o solo R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Suddivisione in 2 sottogruppi terapeutici adiuvanti: terapia </a:t>
            </a:r>
            <a:r>
              <a:rPr b="0" lang="it-IT" sz="1600" spc="-1" strike="noStrike">
                <a:solidFill>
                  <a:srgbClr val="ffff00"/>
                </a:solidFill>
                <a:latin typeface="Tahoma"/>
              </a:rPr>
              <a:t>“ottimale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”( 41 pz, RT&gt;60Gy + almeno TMZ concomitante) vs </a:t>
            </a:r>
            <a:r>
              <a:rPr b="0" lang="it-IT" sz="1600" spc="-1" strike="noStrike">
                <a:solidFill>
                  <a:srgbClr val="ffff00"/>
                </a:solidFill>
                <a:latin typeface="Tahoma"/>
              </a:rPr>
              <a:t>“non ottimale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”( 65 pz, tutti gli altri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Esame istologico dimostrava </a:t>
            </a:r>
            <a:r>
              <a:rPr b="0" lang="it-IT" sz="1600" spc="-1" strike="noStrike">
                <a:solidFill>
                  <a:srgbClr val="ff3300"/>
                </a:solidFill>
                <a:latin typeface="Tahoma"/>
              </a:rPr>
              <a:t>HGG di grado IV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(GB) secondo la WHO Classific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ffff00"/>
                </a:solidFill>
                <a:uFillTx/>
                <a:latin typeface="Tahoma"/>
              </a:rPr>
              <a:t>Valutazione mediante colorazione immunoistochimica dell’espressione dei markers su pezzi istologici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metodo streptavidina-biotina su sezioni di tessuto fissati in formalina e inclusi in paraffin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re-trattattamento a seconda degli anticorpi testati (bagno con buffer citrato per </a:t>
            </a:r>
            <a:r>
              <a:rPr b="0" lang="el-GR" sz="14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-catenina  o EDTA per Gli1 )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cubazione con anticorpi specifici per i marker testati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ilevazione epitopi mediante l’utilizzo di opportuni cromogeni a seconda dell’anticorpo utilizza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I controlli negativi sono stati eseguiti rimpiazzando gli anticorpi testati con immunoglubiline di siero non immune alla stessa concentrazione dell’anticorpo testato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Materiali e metod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Valutazione dell’espressione dei markers</a:t>
            </a: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p-53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: % di nuclei positivi su tutte le cellule tumorali in 10 HPF (1HPF= 0.16 mm2) (at rando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Ki-67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: % di nuclei positivi su i nuclei totali in almeno 10 HPF (zone a più alta proliferazion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Positività EGFR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: secondo uno score dato dalla numero di cellule positive (0=nessuna, 1= positiva in &lt;50%, 2=positiva &gt;50%) e dall’intensità della colorazione (0=negativa; 1=debole; 2=moderata; 3=for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Materiali e metod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Valutazione quantitativa della </a:t>
            </a:r>
            <a:r>
              <a:rPr b="0" lang="el-GR" sz="2400" spc="-1" strike="noStrike">
                <a:solidFill>
                  <a:srgbClr val="ff3300"/>
                </a:solidFill>
                <a:latin typeface="Tahoma"/>
              </a:rPr>
              <a:t>β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-catenina e positività di Gli1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 livelli di espressione per i due markers (</a:t>
            </a:r>
            <a:r>
              <a:rPr b="0" lang="el-GR" sz="2400" spc="-1" strike="noStrike">
                <a:solidFill>
                  <a:srgbClr val="ffff00"/>
                </a:solidFill>
                <a:latin typeface="Tahoma"/>
              </a:rPr>
              <a:t>β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-catenina totale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positività di Gli1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) sono stati calcolati come l’area di colorazione positiva normalizzata in percentuale rispetto alla superficie totale dei campi analizzati con un programma di analisi di immagine computerizzato su sezioni istologiche immunocolora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noltre è stata effettuata una valutazione semi-quantitativa per l’espressione della </a:t>
            </a:r>
            <a:r>
              <a:rPr b="0" lang="el-GR" sz="2400" spc="-1" strike="noStrike">
                <a:solidFill>
                  <a:srgbClr val="ffff00"/>
                </a:solidFill>
                <a:latin typeface="Tahoma"/>
              </a:rPr>
              <a:t>β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-catenina citoplasmatica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(score 0-3)  e la </a:t>
            </a:r>
            <a:r>
              <a:rPr b="0" lang="el-GR" sz="2400" spc="-1" strike="noStrike">
                <a:solidFill>
                  <a:srgbClr val="ffff00"/>
                </a:solidFill>
                <a:latin typeface="Tahoma"/>
              </a:rPr>
              <a:t>β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-catenina nucleare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(% nuclei positivi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Materiali e metod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9" descr="3---Figure 3- Gli-1"/>
          <p:cNvPicPr/>
          <p:nvPr/>
        </p:nvPicPr>
        <p:blipFill>
          <a:blip r:embed="rId1"/>
          <a:stretch/>
        </p:blipFill>
        <p:spPr>
          <a:xfrm>
            <a:off x="468360" y="2492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2---figure2-BetaCaten"/>
          <p:cNvPicPr/>
          <p:nvPr/>
        </p:nvPicPr>
        <p:blipFill>
          <a:blip r:embed="rId2"/>
          <a:stretch/>
        </p:blipFill>
        <p:spPr>
          <a:xfrm>
            <a:off x="4648320" y="25239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684360" y="573408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Colorazione immuno-istochimica per Gli1 su sezioni di GB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859280" y="580536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Colorazione immuno-istochimica per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-catenina su sezioni di GB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Materiali e metod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3300"/>
                </a:solidFill>
                <a:latin typeface="Tahoma"/>
              </a:rPr>
              <a:t>Analisi statist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Matrice di correlazione tra i vari parametri    analizzati (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air-wise Pearson correlation coefficient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Analisi della sopravvivenza mediante 2 modelli:</a:t>
            </a:r>
            <a:r>
              <a:rPr b="0" lang="it-IT" sz="2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00"/>
                </a:solidFill>
                <a:latin typeface="Tahoma"/>
              </a:rPr>
              <a:t>Modello di regressione line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00"/>
                </a:solidFill>
                <a:latin typeface="Tahoma"/>
              </a:rPr>
              <a:t>Modello di classificazione ad alb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07:46:25Z</dcterms:created>
  <dc:creator>.</dc:creator>
  <dc:description/>
  <dc:language>en-US</dc:language>
  <cp:lastModifiedBy>tecno</cp:lastModifiedBy>
  <dcterms:modified xsi:type="dcterms:W3CDTF">2010-11-14T11:14:46Z</dcterms:modified>
  <cp:revision>25</cp:revision>
  <dc:subject/>
  <dc:title>Titolo</dc:title>
</cp:coreProperties>
</file>