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34A-E199-4500-83DC-5DDD1C54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214-18F6-43AB-948B-CB8772B2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9ED-7FDB-4842-BD9E-22F01C2B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550-DB55-4D02-9D4B-7A423FF3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FDC-0C64-429F-BF28-D1653898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911-E2F3-46BE-925A-829F6447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31C-FAC0-408F-A3DA-9BA3EC07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664-764E-466F-8816-94241331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97E-6084-41E9-AA69-6722ABA5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669-CC02-48E6-AE27-CE401E89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3C3-23B4-4758-BC62-21F96207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979-13B5-4DFD-B72C-5E196E37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858C-D593-4077-96B6-59915D95B7B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611280" y="404640"/>
            <a:ext cx="777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ff"/>
                </a:solidFill>
                <a:latin typeface="Times New Roman"/>
                <a:ea typeface="Lucida Sans Unicode"/>
              </a:rPr>
              <a:t>XX Congresso Nazionale A.I.R.O. Associazione Italiana Radioterapia Oncolo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ff"/>
                </a:solidFill>
                <a:latin typeface="Times New Roman"/>
                <a:ea typeface="Lucida Sans Unicode"/>
              </a:rPr>
              <a:t>Napoli, 13 – 16 novembre 2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250920" y="1413000"/>
            <a:ext cx="86421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The impact of FDG-PET for radiotherapy planning in resectable pancreatic adenocarcinoma.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Preliminary result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11280" y="4111560"/>
            <a:ext cx="799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it-IT" sz="23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.L. Pepe</a:t>
            </a:r>
            <a:r>
              <a:rPr b="0" i="1" lang="it-IT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i="1" lang="it-IT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. Micucci, S. Cammelli, A. Cecconi, A.Guido, B. Iacopino, A. Veraldi,  E. Barbier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411280" y="5300640"/>
            <a:ext cx="4343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ipartimento di Radiotera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ir. Prof.ssa E. Barbier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niversità di Bolog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7" descr="Medaglia"/>
          <p:cNvPicPr/>
          <p:nvPr/>
        </p:nvPicPr>
        <p:blipFill>
          <a:blip r:embed="rId1"/>
          <a:stretch/>
        </p:blipFill>
        <p:spPr>
          <a:xfrm>
            <a:off x="7164360" y="5229360"/>
            <a:ext cx="1373040" cy="1328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755640" y="5445000"/>
            <a:ext cx="1150920" cy="9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T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PET-C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imary tumor and lymph nodes CT and/or PET posi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TV: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GTV</a:t>
            </a:r>
            <a:r>
              <a:rPr b="0" lang="en-US" sz="2400" spc="-1" strike="noStrike" baseline="-25000">
                <a:solidFill>
                  <a:srgbClr val="ccffff"/>
                </a:solidFill>
                <a:latin typeface="Times New Roman"/>
              </a:rPr>
              <a:t>PET-CT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+ negative lymph nodes at risk of neoplastic invasion + 2 cm isotropic expa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T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Boos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GTV</a:t>
            </a:r>
            <a:r>
              <a:rPr b="0" lang="en-US" sz="2400" spc="-1" strike="noStrike" baseline="-25000">
                <a:solidFill>
                  <a:srgbClr val="ccffff"/>
                </a:solidFill>
                <a:latin typeface="Times New Roman"/>
              </a:rPr>
              <a:t>PET-CT</a:t>
            </a:r>
            <a:r>
              <a:rPr b="1" lang="en-US" sz="2400" spc="-1" strike="noStrike" baseline="-25000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0.5 cm isotropic expa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TVs: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TVs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+ 1 cm isotropic expa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A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pinal cord, bowel, kidneys, liver, stomac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uode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2266920" y="870120"/>
            <a:ext cx="4321080" cy="37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3148200" cy="316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3"/>
          <a:stretch/>
        </p:blipFill>
        <p:spPr>
          <a:xfrm>
            <a:off x="5003640" y="3500280"/>
            <a:ext cx="36673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4" name="Picture 11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3960720" cy="305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3600360" cy="277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316872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856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TV  received 45 Gy in 25 f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TV Boost  received 9 Gy in 5 sess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349360"/>
            <a:ext cx="4176720" cy="3243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4392720" y="2276640"/>
            <a:ext cx="4751280" cy="329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"/>
          <p:cNvPicPr/>
          <p:nvPr/>
        </p:nvPicPr>
        <p:blipFill>
          <a:blip r:embed="rId3"/>
          <a:stretch/>
        </p:blipFill>
        <p:spPr>
          <a:xfrm>
            <a:off x="4356000" y="5589720"/>
            <a:ext cx="1533600" cy="107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4"/>
          <a:stretch/>
        </p:blipFill>
        <p:spPr>
          <a:xfrm>
            <a:off x="6012000" y="5589720"/>
            <a:ext cx="1533240" cy="1076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"/>
          <p:cNvPicPr/>
          <p:nvPr/>
        </p:nvPicPr>
        <p:blipFill>
          <a:blip r:embed="rId5"/>
          <a:stretch/>
        </p:blipFill>
        <p:spPr>
          <a:xfrm>
            <a:off x="7639200" y="5877000"/>
            <a:ext cx="150480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5416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TV  received 45 Gy in 25 f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TV Boost  received 9 Gy in 5 sess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3851280" cy="3241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4788000" cy="3463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3809880" y="5707080"/>
            <a:ext cx="1317600" cy="101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5127480" y="5715000"/>
            <a:ext cx="1295640" cy="100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5"/>
          <a:stretch/>
        </p:blipFill>
        <p:spPr>
          <a:xfrm>
            <a:off x="6423120" y="5729400"/>
            <a:ext cx="1371600" cy="1012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6"/>
          <a:stretch/>
        </p:blipFill>
        <p:spPr>
          <a:xfrm>
            <a:off x="7719840" y="5746680"/>
            <a:ext cx="1460520" cy="9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89120" indent="-2743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Acute and late toxicity were graded according to the Radiation Therapy Oncology Group (RTOG) radiation morbidity scoring criter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R0 resection rate was 60% in group A and 11.1% in group 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Mean total number of lymph node metastases was inferior in group A versus group 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All but three patients completed the neoadjuvant treatment without interruption due to acute toxicity of chemotherapy and/or radiotherap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Acute reactions during neoadjuvant therap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048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12/14 patients showed mild to moderate sic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3048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5/14 patients showed moderate hematological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3048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2/14 patients showed severe hematological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reliminary results sugge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ffff"/>
                </a:solidFill>
                <a:latin typeface="Times New Roman"/>
              </a:rPr>
              <a:t>PET-TC has greater sensitivity and specificity than CT in the detection of primary tumor and lymph nodes exten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Neoadjuvant chemoradiotherapy plus surgery is tolerabl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Neoadjuvant treatment in patients with pancreatic cancer increases the efficacy of surgery and both reduces the incidence of microscopically positive margins and the number of positive lymph n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Neoadjuvant treatment can improve local control and overall surviv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Pancreatic cancer has an extremely poor prognos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R0 resections and a low number of metastatic nodes are important prognostic fact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Neoadjuvant chemoradiation (NC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downstaging diseas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increase R0 res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reduction in the number of metastatic n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4427640" y="2421000"/>
            <a:ext cx="576000" cy="792000"/>
          </a:xfrm>
          <a:prstGeom prst="downArrow">
            <a:avLst>
              <a:gd name="adj1" fmla="val 50000"/>
              <a:gd name="adj2" fmla="val 3437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4427640" y="4005360"/>
            <a:ext cx="576000" cy="792000"/>
          </a:xfrm>
          <a:prstGeom prst="downArrow">
            <a:avLst>
              <a:gd name="adj1" fmla="val 50000"/>
              <a:gd name="adj2" fmla="val 3437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PET/CT can be use for a more accurate definition of RT target volumes in what appears to have greater sensitivity and specificity than CT in the detection of primary tumor and lymph nodes exten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Our purpose is to evaluate preliminary results of a prospective stud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UDRACT 2007-000557-61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ccffff"/>
                </a:solidFill>
                <a:latin typeface="Times New Roman"/>
              </a:rPr>
              <a:t> of neoadjuvant radiochemo-therapy for adenocarcinoma of the pancreas where PET/CT used for radiotherapy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Betwee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rch 2007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une 2010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we enrolled 27 pati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All patients with resectable pancreatic adenocarcinoma were randomized in two grou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oup A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14 pts): neoadjuvant chemoradiotherapy plus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oup B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13 pts): surgery al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Neoadjuvant therapy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MCITABIN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00 mg/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y 1,8 ever 21 days for 2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DIOCHEMOTHERAP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T 45 Gy/25 (1,8 Gy Fr/day)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oost 9 Gy/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1,8 Gy Fr/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Gemcitabine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50 mg/m</a:t>
            </a:r>
            <a:r>
              <a:rPr b="0" lang="en-US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twice-</a:t>
            </a:r>
            <a:r>
              <a:rPr b="0" lang="it-IT" sz="3000" spc="-1" strike="noStrike">
                <a:solidFill>
                  <a:srgbClr val="ff0000"/>
                </a:solidFill>
                <a:latin typeface="Times New Roman"/>
              </a:rPr>
              <a:t>weekly</a:t>
            </a:r>
            <a:r>
              <a:rPr b="0" lang="it-IT" sz="30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4643280" y="321300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For each patient, the PET/TC scan are performed  with  patient immobilized in the treatment posi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PAZ1"/>
          <p:cNvPicPr/>
          <p:nvPr/>
        </p:nvPicPr>
        <p:blipFill>
          <a:blip r:embed="rId1"/>
          <a:stretch/>
        </p:blipFill>
        <p:spPr>
          <a:xfrm>
            <a:off x="2411280" y="2637000"/>
            <a:ext cx="4392720" cy="39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6" name="Picture 5" descr="paz2"/>
          <p:cNvPicPr/>
          <p:nvPr/>
        </p:nvPicPr>
        <p:blipFill>
          <a:blip r:embed="rId1"/>
          <a:stretch/>
        </p:blipFill>
        <p:spPr>
          <a:xfrm>
            <a:off x="2124000" y="1341360"/>
            <a:ext cx="5073840" cy="503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21:03:51Z</dcterms:created>
  <dc:creator>m</dc:creator>
  <dc:description/>
  <dc:language>en-US</dc:language>
  <cp:lastModifiedBy>tecno</cp:lastModifiedBy>
  <dcterms:modified xsi:type="dcterms:W3CDTF">2010-11-13T17:07:16Z</dcterms:modified>
  <cp:revision>50</cp:revision>
  <dc:subject/>
  <dc:title>Diapositiva 1</dc:title>
</cp:coreProperties>
</file>