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dt" idx="37"/>
          </p:nvPr>
        </p:nvSpPr>
        <p:spPr>
          <a:xfrm>
            <a:off x="385560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sldImg"/>
          </p:nvPr>
        </p:nvSpPr>
        <p:spPr>
          <a:xfrm>
            <a:off x="926640" y="742680"/>
            <a:ext cx="495324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38383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body"/>
          </p:nvPr>
        </p:nvSpPr>
        <p:spPr>
          <a:xfrm>
            <a:off x="680760" y="470484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ftr" idx="38"/>
          </p:nvPr>
        </p:nvSpPr>
        <p:spPr>
          <a:xfrm>
            <a:off x="-360" y="940896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 type="sldNum" idx="39"/>
          </p:nvPr>
        </p:nvSpPr>
        <p:spPr>
          <a:xfrm>
            <a:off x="3855600" y="940896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6A00-32D3-4010-8C30-3E8ED3D1BAA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2700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0760" y="470484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egnaposto numero diapositiva 3"/>
          <p:cNvSpPr/>
          <p:nvPr/>
        </p:nvSpPr>
        <p:spPr>
          <a:xfrm>
            <a:off x="3855960" y="94089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E02F-3A3E-4B0A-A6AF-F9CECE295BC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2700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0760" y="470484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e si considerano le pazienti che hanno avuto recidiva locale, la presenza di DM è ancora il fattore predittivo la mor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egnaposto numero diapositiva 3"/>
          <p:cNvSpPr/>
          <p:nvPr/>
        </p:nvSpPr>
        <p:spPr>
          <a:xfrm>
            <a:off x="3855960" y="94089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14F9-A485-446E-A631-65D9D57B0D1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2700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0760" y="470484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egnaposto numero diapositiva 3"/>
          <p:cNvSpPr/>
          <p:nvPr/>
        </p:nvSpPr>
        <p:spPr>
          <a:xfrm>
            <a:off x="3855960" y="94089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C0CD-ECDB-4282-8D16-7A02B701721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2700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0760" y="470484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egnaposto numero diapositiva 3"/>
          <p:cNvSpPr/>
          <p:nvPr/>
        </p:nvSpPr>
        <p:spPr>
          <a:xfrm>
            <a:off x="3855960" y="94089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78D9-05A6-403F-B8D5-567EA49B8CC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2700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0760" y="470484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egnaposto numero diapositiva 3"/>
          <p:cNvSpPr/>
          <p:nvPr/>
        </p:nvSpPr>
        <p:spPr>
          <a:xfrm>
            <a:off x="3855960" y="94089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0197-2B07-4687-AC83-0622F1B332B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2700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0760" y="470484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egnaposto numero diapositiva 3"/>
          <p:cNvSpPr/>
          <p:nvPr/>
        </p:nvSpPr>
        <p:spPr>
          <a:xfrm>
            <a:off x="3855960" y="94089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7C73-E8FA-4B44-8EF0-76486B4FDC2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2700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0760" y="470484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egnaposto numero diapositiva 3"/>
          <p:cNvSpPr/>
          <p:nvPr/>
        </p:nvSpPr>
        <p:spPr>
          <a:xfrm>
            <a:off x="3855960" y="94089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68ED-B8DE-423F-BD82-78DF76A6AE6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92700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0760" y="470484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egnaposto numero diapositiva 3"/>
          <p:cNvSpPr/>
          <p:nvPr/>
        </p:nvSpPr>
        <p:spPr>
          <a:xfrm>
            <a:off x="3855960" y="94089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B4BC-3EED-47C9-9490-4E35F901D70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2700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0760" y="470484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egnaposto numero diapositiva 3"/>
          <p:cNvSpPr/>
          <p:nvPr/>
        </p:nvSpPr>
        <p:spPr>
          <a:xfrm>
            <a:off x="3855960" y="94089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6608-0B59-47CF-9B38-44225426A7E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2700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0760" y="470484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egnaposto numero diapositiva 3"/>
          <p:cNvSpPr/>
          <p:nvPr/>
        </p:nvSpPr>
        <p:spPr>
          <a:xfrm>
            <a:off x="3855960" y="94089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0E50-E516-4AE6-B58A-6A39426E43F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2700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0760" y="470484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egnaposto numero diapositiva 3"/>
          <p:cNvSpPr/>
          <p:nvPr/>
        </p:nvSpPr>
        <p:spPr>
          <a:xfrm>
            <a:off x="3855960" y="94089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B72C-8559-4F8D-AA3C-2B817AA3557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2700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0760" y="470484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egnaposto numero diapositiva 3"/>
          <p:cNvSpPr/>
          <p:nvPr/>
        </p:nvSpPr>
        <p:spPr>
          <a:xfrm>
            <a:off x="3855960" y="94089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C503-BC9B-4793-9A12-56CD91C780D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2700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0760" y="470484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egnaposto numero diapositiva 3"/>
          <p:cNvSpPr/>
          <p:nvPr/>
        </p:nvSpPr>
        <p:spPr>
          <a:xfrm>
            <a:off x="3855960" y="94089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DAE9-A44B-4180-92C1-1804EA5608C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2700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0760" y="470484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egnaposto numero diapositiva 3"/>
          <p:cNvSpPr/>
          <p:nvPr/>
        </p:nvSpPr>
        <p:spPr>
          <a:xfrm>
            <a:off x="3855960" y="94089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0584-9404-48DF-856D-6022B524C61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2700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0760" y="470484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onsiderando tutte le 83 SFR , le pz P3 hanno una più alta incidenza di SFR in confronto con le P1 e P2. Tuttavia l’incidenza di SFR nelle pz P3 è solo 5.5% invece l’incidenza di metastasi a distanza è del 27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egnaposto numero diapositiva 3"/>
          <p:cNvSpPr/>
          <p:nvPr/>
        </p:nvSpPr>
        <p:spPr>
          <a:xfrm>
            <a:off x="3855960" y="94089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310E-A3BB-4042-9862-371F8EE5FA8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2700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0760" y="470484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Guardando i più importanti predittori di morte nelle tre categorie la presenza di metastasi a distanza è l’unico fattore prognostico indipendente per la sopravvivenza nel tumore della mammella. La principale complicazione delle pz P3 è la DM e non SF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egnaposto numero diapositiva 3"/>
          <p:cNvSpPr/>
          <p:nvPr/>
        </p:nvSpPr>
        <p:spPr>
          <a:xfrm>
            <a:off x="3855960" y="94089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1F28-2226-4AF4-896B-A48F2D86CC6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96C-5EE1-4A3E-A01E-716443D2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6386-3AAA-4289-8672-BC378BBE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9F80C-A0FE-455A-A9F2-F1FE3E85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5DE29-B31A-4ABC-AFE8-C2515CE5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58ECE-E1DB-48DD-AA5A-84F2ADBA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95CE6-6AB8-411E-94DA-CCBD5DF3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6AB1FC-847F-4E2E-A9F1-942F1673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F3D5FF-67EA-440B-9B93-C6968BC8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0164C-1AF3-430D-9D2D-C955EBA1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70F23-856F-4C95-80AF-2D73132C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441BF-A838-4517-A0B2-12DCF1A9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18C5A-7B95-47E0-ADDB-97F3D4A3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ABFF-1BFF-4F41-9536-D82B6B6A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F63BD-A5AD-42BF-AAA2-819FDC38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19145-0971-4504-9354-80C68E19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EF646-1ED4-4E92-82EE-9FC9B845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3271F-4785-4638-9918-9232D114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75E1D3-1BC9-4DEB-A4F5-E3971EF2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485FB3-1629-4EFC-B368-62B2C232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5F1A0-156F-4297-8074-D0708654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AFCB7-7E3E-4CCA-A7D2-D9FC56E0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3935E2-C532-4DBA-B5EC-87D07C86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DBC194-C958-469F-9DAB-71724863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71BC-062B-413F-8278-E86FF997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C1E40-190D-42C3-81FE-F5E5C4EB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3FCF4-BA73-4B87-BD82-A5479C76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D4580-67F5-4A97-A70E-297C1849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BAD11-8831-4A5D-AE2A-92CA39AE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1AC63-11D0-46B4-B714-AA61ED62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2D34C-D50D-40C6-B86B-5295B2AD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248EC-42B1-4D23-8F33-F2567004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2E834-3017-40ED-B12A-0F56327B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595BD-C13C-4CBB-88F5-C90491B4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A6128-673E-4607-BC45-FC95B0CA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7E84-2CEB-49E0-8E57-B2B16D4C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DF0EB-5132-4155-A158-A2FCD248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2BA1F-47BE-43FE-AABB-334C55EA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F59D3-84B5-488A-ABC7-0574E2C1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1D3713-E349-4FDC-9F9F-9B041CAE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1ABCD-2959-436C-BF63-705AE54F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6BE57E-ADDC-4C74-A52D-3BD97B16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2FFE87-1115-4FED-A88E-70282D08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D3302-1435-419F-B0C7-3B39445F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893360-9FED-4E62-ACB6-21E5D272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EF7C5B-2C06-4D1F-B148-EB65900F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E1AF-FB4A-498C-9E94-C6EC4612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99783-384A-49C2-ABF4-30F4EEAD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9E4ACE-EA54-426A-B73C-D3C63E37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26103F-2A3E-4B1D-A399-21FB37D0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FFAE5-B2D8-4571-BD02-BA25B77E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0505B8-8D1B-4608-A5CA-07E38B2D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8078-2D13-4273-B1DD-73894E5E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CCF4-000E-4D57-8A0E-9FE3BE0F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A60E-36CF-4CD0-969E-6E21ECA7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6865-689C-4F6F-AD89-41288406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AAC1-BA2B-4F7B-BDC8-0ED198A2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EEBB-CA63-4612-95E4-53E67927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A8E2-00DC-4747-B96B-2368C907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6A32-B2A6-4534-957E-EEC3C99D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A027-3177-4ABC-B9F5-C40C3081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9A14-A9F1-4B87-9AE3-50B29C64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3AE3-8BBF-4022-9C9A-A997C04E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4E6B3-72EB-478E-BACF-6BDC6D3E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D1642-7DC2-4122-9DC8-15BDCEF3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3F3DA-E023-4A9C-BEBC-5EFB0AFC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5ED39-D606-4906-AE3F-5ADA551A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460E6-D852-4AB5-974E-A84075A9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1B9F-4BEA-4702-8EA1-F68C82AD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48289-040C-43C6-B816-1FDC96C2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1B4A6-AF8C-47B7-B1A0-C89FF5E7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A2D18-AA2D-4733-B527-F1D6E0D1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A0CEB-DBEA-4807-9BDA-E195033A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A87BF-EFF7-4C75-8B41-7FC08824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152BB-F778-4281-9E4F-94C4F7F0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6AB2C-7866-488A-B595-7317CEE6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98C11-A12F-47EA-B5F8-D07FFC44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B6E83-D7E9-4612-9C0B-3E4D5D22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FFBEB-4485-4B58-A56B-1C733C8D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5A5D-D0BF-4614-98BD-A5BC1C02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8167F-A94F-4F71-8617-03CD00A6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179BF-EA56-4CD9-9BD0-47CEB115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A42F8-A0C9-4247-8E47-EE660234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6BB64-01B2-4B86-B1D6-8DC8BF20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535FD-31E9-46FB-B8DF-AB78A21C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A0066-DB7F-46AD-8EAE-2D496B1A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CD74E-FC86-4F2E-A370-09A019CB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94C20-18F2-4CF5-83B9-F97CCF0B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6630A-FC40-4345-A682-AF782CDA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BBAC5-6329-4F64-84C2-40E54B7D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6F2-5BA0-4030-87F3-D4E89C1C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6131D-6176-4FA1-89BD-093B48B0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67FC0-117F-48E2-B42F-51B34F62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AB131-3C7D-47F6-ACAD-4CBAC7F4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F6829-6941-4E0E-9A22-496B0492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9D979-D3D7-4FFA-928D-93B3839A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BA93D-1167-42F7-B93A-C85DF22D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64F55-4314-4A21-9CD4-919B6A3C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4CC4C-CD85-4F4D-ABDB-B2C6CF5C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BDFA8-B1DC-4ED2-8A30-91854967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6557C-88EF-42C7-BB9A-4D162AED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300-A447-45D6-8303-CE40C205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A290F-6118-477A-8B66-C27F7287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9E6B9-335F-4DE1-AE88-2010643C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CCF2C-5ADD-4F16-A6AA-5CC3467F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AC028-3345-4126-B316-747303FC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23215-0DDE-4DF9-B1FA-9136CBA4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3D542-6F90-480B-9CC2-69E6C8EE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1AE64-5C9D-459D-BE15-2418DE8A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605BF-DE38-469A-86C5-42C94A53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8AB76-DD7D-41BC-8AD3-85A89C54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B1366-DD98-44D9-9D17-30B964EA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DB8-3575-49EC-9012-E1B7D78B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B342F-3C26-46CB-87BD-7F891E6A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FD7E9-3C03-4BAF-967C-62F48887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ECE74-4BEB-44C3-AD59-82418AA0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5859A-2D04-48EA-85D6-5D7ED7D4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24E35-0F85-419E-809E-EA6878EF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A369C-5EEF-474A-B4DF-1B335ED2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323B8-5707-4F26-BD92-268DC3C1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AFB3C-2D68-41F2-895B-3AE7D688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475D3-7B3B-431D-8708-A936FD19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B499F-C98F-4E05-8BB0-09B8A6A7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3569-A3B7-4184-8E49-8291B76C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1724C-08CF-42F0-BDD4-2EF93CFD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CC0FA-3558-449B-B86D-C2F967CC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D5F9E-461F-44E6-A1C8-B2E11728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6206D-4D9A-4F03-900C-A08C2E24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0CB02-2091-4223-8010-98DA8CCB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4C5EF-E19A-4522-A948-63450168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ABD1B-A5EE-4F1B-B07A-0FFDA9B7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CDC76-F912-4621-8EEA-09FC8879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6F225-2580-45D2-A7D3-5BE53D74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81842-CFF7-4866-B0DC-1C7481A3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B86-C75B-48BB-85CB-6918EFEC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E62FC-601B-4519-80A4-3579A04D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A1F28-6CD6-40EB-84C7-F2624216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6B6F8-DE49-40AA-865C-1E1BAAD7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0DC5A-ED6C-4126-887F-12977733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8DD32-3D77-4043-BD33-2BB5A588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7E30D-677E-4A35-8A6F-DC132575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44BD4-3EB7-407E-ADC9-0FE71EF9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FED83-7E5C-4594-BA72-EE1C2EA0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D8265-2FD0-467A-9F99-976E6ECF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26BC0-7208-413A-BF42-14D1CC23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3838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83838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EF00-539F-49B0-93E3-77EEC2CD92A4}" type="slidenum">
              <a:rPr b="0" lang="it-IT" sz="1600" spc="-1" strike="noStrike">
                <a:solidFill>
                  <a:srgbClr val="83838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3838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6969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808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5f5f5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3838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onnettore 1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3838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tangolo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ttangolo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tangolo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ttangolo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ttangolo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ttangolo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ttangolo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e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e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ttangolo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3838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6969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808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5f5f5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83838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F25F-3EB5-48B2-9CE4-E6350969F6A7}" type="slidenum">
              <a:rPr b="0" lang="it-IT" sz="1600" spc="-1" strike="noStrike">
                <a:solidFill>
                  <a:srgbClr val="83838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3838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3838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6969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808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5f5f5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83838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0377-4375-4579-9A60-CC0F1D5EEAC0}" type="slidenum">
              <a:rPr b="0" lang="it-IT" sz="1600" spc="-1" strike="noStrike">
                <a:solidFill>
                  <a:srgbClr val="83838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3838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ttangolo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ttangolo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ttangolo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ttangolo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ttangolo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ttangolo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Connettore 1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3838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e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e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3838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6969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808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5f5f5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83838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E63E-5015-4942-B3C0-66B83996FE02}" type="slidenum">
              <a:rPr b="0" lang="it-IT" sz="1600" spc="-1" strike="noStrike">
                <a:solidFill>
                  <a:srgbClr val="83838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3838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tangolo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ttangolo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ttangolo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tangolo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onnettore 1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3838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e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e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3838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6969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808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5f5f5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83838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6F75-EA5F-4CAC-82AA-2F88B4AA605C}" type="slidenum">
              <a:rPr b="0" lang="it-IT" sz="1600" spc="-1" strike="noStrike">
                <a:solidFill>
                  <a:srgbClr val="83838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3838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3838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6969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808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5f5f5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83838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C6F5-5C08-44FE-8985-54623AD31695}" type="slidenum">
              <a:rPr b="0" lang="it-IT" sz="1600" spc="-1" strike="noStrike">
                <a:solidFill>
                  <a:srgbClr val="83838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3838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ttangolo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ttangolo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ttangolo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ttangolo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ttangolo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ttangolo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ttangolo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ttangolo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onnettore 1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3838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e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e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3838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6969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808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5f5f5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83838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0457-50B5-41E9-B46E-50D873A550A7}" type="slidenum">
              <a:rPr b="0" lang="it-IT" sz="1600" spc="-1" strike="noStrike">
                <a:solidFill>
                  <a:srgbClr val="83838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3838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onnettore 1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3838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6969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808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5f5f5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83838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EE4D-0A28-417A-9D0C-D719C1ACC79A}" type="slidenum">
              <a:rPr b="0" lang="it-IT" sz="1600" spc="-1" strike="noStrike">
                <a:solidFill>
                  <a:srgbClr val="83838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3838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Connettore 1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ttangolo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ttangolo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ttangolo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ttangolo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ttangolo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ttangolo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onnettore 1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3838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ttangolo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e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e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3838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6969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808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5f5f5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83838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2101-B993-44CD-8ED5-A2E5BFDA1184}" type="slidenum">
              <a:rPr b="0" lang="it-IT" sz="1600" spc="-1" strike="noStrike">
                <a:solidFill>
                  <a:srgbClr val="83838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3838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3838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6969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808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5f5f5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83838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8F1D-8D50-4866-8CD4-4EEA20346369}" type="slidenum">
              <a:rPr b="0" lang="it-IT" sz="1600" spc="-1" strike="noStrike">
                <a:solidFill>
                  <a:srgbClr val="83838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3838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ttangolo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ttangolo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ttangolo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ttangolo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ttangolo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ttangolo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3838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6969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808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5f5f5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720C-4B46-4FEC-AD0B-0FCDE7DF206C}" type="slidenum"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3838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ttangolo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ttangolo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ttangolo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ttangolo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ttangolo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ttangolo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ttangolo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Connettore 1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3838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e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e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3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ttangolo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3838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6969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808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5f5f5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83838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5E6E-F721-4431-8D0D-1966F525B1C7}" type="slidenum">
              <a:rPr b="0" lang="it-IT" sz="1600" spc="-1" strike="noStrike">
                <a:solidFill>
                  <a:srgbClr val="83838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220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Outcome dopo chirurgia conservativa e radioterapia in 5717 pazienti con tumore della mammella: implicazioni  dell’irradiazione delle stazioni sovraclaveari</a:t>
            </a:r>
            <a:endParaRPr b="0" lang="en-US" sz="2400" spc="-1" strike="noStrike">
              <a:solidFill>
                <a:srgbClr val="838383"/>
              </a:solidFill>
              <a:latin typeface="Georgia"/>
            </a:endParaRPr>
          </a:p>
        </p:txBody>
      </p:sp>
      <p:pic>
        <p:nvPicPr>
          <p:cNvPr id="677" name="Picture 3" descr=""/>
          <p:cNvPicPr/>
          <p:nvPr/>
        </p:nvPicPr>
        <p:blipFill>
          <a:blip r:embed="rId1"/>
          <a:stretch/>
        </p:blipFill>
        <p:spPr>
          <a:xfrm>
            <a:off x="6662880" y="4943520"/>
            <a:ext cx="2109600" cy="1396800"/>
          </a:xfrm>
          <a:prstGeom prst="rect">
            <a:avLst/>
          </a:prstGeom>
          <a:ln w="0">
            <a:noFill/>
          </a:ln>
        </p:spPr>
      </p:pic>
      <p:sp>
        <p:nvSpPr>
          <p:cNvPr id="678" name="CasellaDiTesto 3"/>
          <p:cNvSpPr/>
          <p:nvPr/>
        </p:nvSpPr>
        <p:spPr>
          <a:xfrm>
            <a:off x="500040" y="2786040"/>
            <a:ext cx="8215200" cy="1984320"/>
          </a:xfrm>
          <a:prstGeom prst="rect">
            <a:avLst/>
          </a:prstGeom>
          <a:solidFill>
            <a:srgbClr val="ffffff"/>
          </a:solidFill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Georgia"/>
              </a:rPr>
              <a:t>D. Greto</a:t>
            </a: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, L. Livi, V.Scotti, C. De Luca Cardill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E. Monteleone Pasquetti, S. Cassani, G. B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Università degli Studi di Fir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CasellaDiTesto 4"/>
          <p:cNvSpPr/>
          <p:nvPr/>
        </p:nvSpPr>
        <p:spPr>
          <a:xfrm>
            <a:off x="2843280" y="528624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eorgia"/>
              </a:rPr>
              <a:t>XX Congresso Nazionale A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eorgia"/>
              </a:rPr>
              <a:t>Napoli, 13-16 Novem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9" descr="http://t1.gstatic.com/images?q=tbn:ANd9GcTeJvFcsR3pKAzf6bmJiBDtwAiOFxdvXvNlGJUKtWKu9QtWY4g&amp;t=1&amp;usg=__djvlJ2yPsAlU0VziWsQPBartRRA="/>
          <p:cNvPicPr/>
          <p:nvPr/>
        </p:nvPicPr>
        <p:blipFill>
          <a:blip r:embed="rId2"/>
          <a:stretch/>
        </p:blipFill>
        <p:spPr>
          <a:xfrm>
            <a:off x="1071720" y="3429000"/>
            <a:ext cx="1214280" cy="10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eorgia"/>
              </a:rPr>
              <a:t>Cox Regression model per identificare i fattori predittivi di morte nelle pazienti che hanno sviluppato recidiva locale</a:t>
            </a:r>
            <a:endParaRPr b="0" lang="en-US" sz="2000" spc="-1" strike="noStrike">
              <a:solidFill>
                <a:srgbClr val="838383"/>
              </a:solidFill>
              <a:latin typeface="Georgia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250920" y="1413000"/>
          <a:ext cx="8712000" cy="4968720"/>
        </p:xfrm>
        <a:graphic>
          <a:graphicData uri="http://schemas.openxmlformats.org/drawingml/2006/table">
            <a:tbl>
              <a:tblPr/>
              <a:tblGrid>
                <a:gridCol w="1743120"/>
                <a:gridCol w="1741320"/>
                <a:gridCol w="1743120"/>
                <a:gridCol w="1324080"/>
                <a:gridCol w="2160360"/>
              </a:tblGrid>
              <a:tr h="1398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icaduta Lo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Varia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aram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tim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HR (95% 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1225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tasta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8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&lt; 0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3.9 (89.5-171.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171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mmell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tasta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7.7 (15.1-50.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1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vraclave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tasta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9 (1.4- 6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16" name="Ovale 4"/>
          <p:cNvSpPr/>
          <p:nvPr/>
        </p:nvSpPr>
        <p:spPr>
          <a:xfrm>
            <a:off x="5580000" y="5429160"/>
            <a:ext cx="1008000" cy="500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Georgia"/>
              </a:rPr>
              <a:t>Conclusioni</a:t>
            </a:r>
            <a:endParaRPr b="0" lang="en-US" sz="48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42920" y="4071960"/>
            <a:ext cx="8858160" cy="235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a6a6a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dddddd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747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Nel nostro studio l’incidenza di SFR nelle pz con &gt; 3 linfonodi positivi che non ricevono irradiazione sovraclaveare è bassa (5.5%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747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La SFR non risulta influente sull’outcom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747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Il fattore che maggiormente predice la sopravvivenza è la presenza di metastasi a distanz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ddddd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ddddd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9" name="Picture 7" descr=""/>
          <p:cNvPicPr/>
          <p:nvPr/>
        </p:nvPicPr>
        <p:blipFill>
          <a:blip r:embed="rId1"/>
          <a:srcRect l="20865" t="28322" r="21487" b="16019"/>
          <a:stretch/>
        </p:blipFill>
        <p:spPr>
          <a:xfrm>
            <a:off x="0" y="0"/>
            <a:ext cx="914400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rcRect l="28100" t="18158" r="9918" b="41982"/>
          <a:stretch/>
        </p:blipFill>
        <p:spPr>
          <a:xfrm>
            <a:off x="0" y="0"/>
            <a:ext cx="9144000" cy="3714840"/>
          </a:xfrm>
          <a:prstGeom prst="rect">
            <a:avLst/>
          </a:prstGeom>
          <a:ln w="0">
            <a:noFill/>
          </a:ln>
        </p:spPr>
      </p:pic>
      <p:sp>
        <p:nvSpPr>
          <p:cNvPr id="722" name="CasellaDiTesto 4"/>
          <p:cNvSpPr/>
          <p:nvPr/>
        </p:nvSpPr>
        <p:spPr>
          <a:xfrm>
            <a:off x="142920" y="3716280"/>
            <a:ext cx="8858160" cy="2695320"/>
          </a:xfrm>
          <a:prstGeom prst="rect">
            <a:avLst/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"the Poor" is defined by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at least two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ut of three un-favorable cri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(&gt;3 positive nodes, tumor size &gt;5cm, Grade 3 malignancy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 largest absolute reduction in 5-year LR probability after radiotherapy was seen for the poor prognosis group (36%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However, this large LR reduction did not translate into any reduction in 15-year breast cancer mortality (0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301320" y="1527120"/>
            <a:ext cx="8504280" cy="2044800"/>
          </a:xfrm>
          <a:prstGeom prst="rect">
            <a:avLst/>
          </a:prstGeom>
          <a:solidFill>
            <a:srgbClr val="f2f2f2"/>
          </a:solidFill>
          <a:ln w="28440">
            <a:solidFill>
              <a:srgbClr val="7f7f7f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eorgia"/>
              </a:rPr>
              <a:t>EORTC 10925/22922: </a:t>
            </a: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Phase III randomized trial investigating the role of internal mammary and medial supraclavicular (IM-MS) lymph node chain irradiation in stage I-III breast canc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To determine the effect of irradiation to the homolateral mammary supraclavicular lymph node chain in operable breast cancer on OS, DFS, MFS, cause of deat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5" name="Rettangolo 3"/>
          <p:cNvSpPr/>
          <p:nvPr/>
        </p:nvSpPr>
        <p:spPr>
          <a:xfrm>
            <a:off x="900000" y="4221000"/>
            <a:ext cx="647640" cy="1417680"/>
          </a:xfrm>
          <a:prstGeom prst="rect">
            <a:avLst/>
          </a:prstGeom>
          <a:solidFill>
            <a:srgbClr val="ffffff"/>
          </a:solidFill>
          <a:ln w="1152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6" name="Connettore 2 5"/>
          <p:cNvCxnSpPr/>
          <p:nvPr/>
        </p:nvCxnSpPr>
        <p:spPr>
          <a:xfrm flipV="1">
            <a:off x="1547280" y="4285800"/>
            <a:ext cx="109620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7" name="Connettore 2 11"/>
          <p:cNvCxnSpPr>
            <a:stCxn id="725" idx="3"/>
          </p:cNvCxnSpPr>
          <p:nvPr/>
        </p:nvCxnSpPr>
        <p:spPr>
          <a:xfrm>
            <a:off x="1547280" y="4930920"/>
            <a:ext cx="1080360" cy="65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8" name="CasellaDiTesto 16"/>
          <p:cNvSpPr/>
          <p:nvPr/>
        </p:nvSpPr>
        <p:spPr>
          <a:xfrm>
            <a:off x="2700360" y="3714840"/>
            <a:ext cx="4014720" cy="2288520"/>
          </a:xfrm>
          <a:prstGeom prst="rect">
            <a:avLst/>
          </a:prstGeom>
          <a:solidFill>
            <a:srgbClr val="d9d9d9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Georgia"/>
              </a:rPr>
              <a:t>No irradiation of IM/MS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Georgia"/>
              </a:rPr>
              <a:t>Irradiation of IM/MS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CasellaDiTesto 25"/>
          <p:cNvSpPr/>
          <p:nvPr/>
        </p:nvSpPr>
        <p:spPr>
          <a:xfrm>
            <a:off x="302040" y="6093000"/>
            <a:ext cx="74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eorgia"/>
              </a:rPr>
              <a:t>Opened in July 1996, closed to accrual on 15/01/2004: 4000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CasellaDiTesto 8"/>
          <p:cNvSpPr/>
          <p:nvPr/>
        </p:nvSpPr>
        <p:spPr>
          <a:xfrm>
            <a:off x="1428840" y="28584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Georgia"/>
              </a:rPr>
              <a:t>Ongoing Tri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38383"/>
              </a:solidFill>
              <a:latin typeface="Georgia"/>
            </a:endParaRPr>
          </a:p>
        </p:txBody>
      </p:sp>
      <p:pic>
        <p:nvPicPr>
          <p:cNvPr id="732" name="Picture 9" descr=""/>
          <p:cNvPicPr/>
          <p:nvPr/>
        </p:nvPicPr>
        <p:blipFill>
          <a:blip r:embed="rId1"/>
          <a:srcRect l="13555" t="28174" r="11732" b="24582"/>
          <a:stretch/>
        </p:blipFill>
        <p:spPr>
          <a:xfrm>
            <a:off x="179280" y="2637000"/>
            <a:ext cx="8785440" cy="37447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2" descr=""/>
          <p:cNvPicPr/>
          <p:nvPr/>
        </p:nvPicPr>
        <p:blipFill>
          <a:blip r:embed="rId2"/>
          <a:srcRect l="12448" t="22269" r="10071" b="6250"/>
          <a:stretch/>
        </p:blipFill>
        <p:spPr>
          <a:xfrm>
            <a:off x="142920" y="189000"/>
            <a:ext cx="8858160" cy="2448000"/>
          </a:xfrm>
          <a:prstGeom prst="rect">
            <a:avLst/>
          </a:prstGeom>
          <a:ln w="0">
            <a:noFill/>
          </a:ln>
        </p:spPr>
      </p:pic>
      <p:cxnSp>
        <p:nvCxnSpPr>
          <p:cNvPr id="734" name="Connettore 2 6"/>
          <p:cNvCxnSpPr/>
          <p:nvPr/>
        </p:nvCxnSpPr>
        <p:spPr>
          <a:xfrm>
            <a:off x="7093080" y="5013360"/>
            <a:ext cx="358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5" name="Connettore 2 7"/>
          <p:cNvCxnSpPr/>
          <p:nvPr/>
        </p:nvCxnSpPr>
        <p:spPr>
          <a:xfrm>
            <a:off x="7093080" y="5373720"/>
            <a:ext cx="358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6" name="Connettore 2 10"/>
          <p:cNvCxnSpPr/>
          <p:nvPr/>
        </p:nvCxnSpPr>
        <p:spPr>
          <a:xfrm>
            <a:off x="7093080" y="4436640"/>
            <a:ext cx="358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7" name="Connettore 2 11"/>
          <p:cNvCxnSpPr/>
          <p:nvPr/>
        </p:nvCxnSpPr>
        <p:spPr>
          <a:xfrm>
            <a:off x="7093080" y="6237360"/>
            <a:ext cx="358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8" name="Rettangolo 8"/>
          <p:cNvSpPr/>
          <p:nvPr/>
        </p:nvSpPr>
        <p:spPr>
          <a:xfrm>
            <a:off x="142920" y="142920"/>
            <a:ext cx="8858160" cy="2500200"/>
          </a:xfrm>
          <a:prstGeom prst="rect">
            <a:avLst/>
          </a:prstGeom>
          <a:noFill/>
          <a:ln w="115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CasellaDiTesto 9"/>
          <p:cNvSpPr/>
          <p:nvPr/>
        </p:nvSpPr>
        <p:spPr>
          <a:xfrm rot="19681800">
            <a:off x="1824120" y="2177280"/>
            <a:ext cx="5370480" cy="1434600"/>
          </a:xfrm>
          <a:prstGeom prst="rect">
            <a:avLst/>
          </a:prstGeom>
          <a:solidFill>
            <a:srgbClr val="a6a6a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it-IT" sz="8800" spc="-1" strike="noStrike">
                <a:solidFill>
                  <a:srgbClr val="ff0000"/>
                </a:solidFill>
                <a:latin typeface="Georgia"/>
              </a:rPr>
              <a:t>Toxicit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0" name="Connettore 2 13"/>
          <p:cNvCxnSpPr/>
          <p:nvPr/>
        </p:nvCxnSpPr>
        <p:spPr>
          <a:xfrm flipH="1" flipV="1">
            <a:off x="2428200" y="3714480"/>
            <a:ext cx="500760" cy="7149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it-IT" sz="5400" spc="-1" strike="noStrike">
                <a:solidFill>
                  <a:srgbClr val="606060"/>
                </a:solidFill>
                <a:latin typeface="Georgia"/>
              </a:rPr>
              <a:t>Conclusioni</a:t>
            </a:r>
            <a:endParaRPr b="0" lang="en-US" sz="54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285480" y="2565360"/>
            <a:ext cx="8504280" cy="266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606060"/>
            </a:solidFill>
            <a:miter/>
          </a:ln>
        </p:spPr>
        <p:txBody>
          <a:bodyPr anchor="t">
            <a:normAutofit fontScale="62000"/>
          </a:bodyPr>
          <a:p>
            <a:pPr marL="168840" indent="-16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68840" indent="-168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L’irradiazione</a:t>
            </a:r>
            <a:r>
              <a:rPr b="0" lang="it-IT" sz="2800" spc="-1" strike="noStrike">
                <a:solidFill>
                  <a:srgbClr val="000000"/>
                </a:solidFill>
                <a:latin typeface="Agency FB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delle stazioni sovraclaveari, anche nella pz con più di 3  PAN,  non è sempre giustificata ma è necessario considerare molteplici fattori patologici e biologic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68840" indent="-168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68840" indent="-16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68840" indent="-16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68840" indent="-16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68840" indent="-16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68840" indent="-16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CasellaDiTesto 2"/>
          <p:cNvSpPr/>
          <p:nvPr/>
        </p:nvSpPr>
        <p:spPr>
          <a:xfrm>
            <a:off x="179280" y="6237360"/>
            <a:ext cx="475308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Grazie dell’atten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300" spc="-1" strike="noStrike">
              <a:solidFill>
                <a:srgbClr val="838383"/>
              </a:solidFill>
              <a:latin typeface="Georgia"/>
            </a:endParaRPr>
          </a:p>
        </p:txBody>
      </p:sp>
      <p:pic>
        <p:nvPicPr>
          <p:cNvPr id="682" name="Picture 2" descr=""/>
          <p:cNvPicPr/>
          <p:nvPr/>
        </p:nvPicPr>
        <p:blipFill>
          <a:blip r:embed="rId1"/>
          <a:srcRect l="26379" t="25000" r="24205" b="79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3" name="Freccia a destra con strisce 3"/>
          <p:cNvSpPr/>
          <p:nvPr/>
        </p:nvSpPr>
        <p:spPr>
          <a:xfrm>
            <a:off x="468360" y="907920"/>
            <a:ext cx="1439640" cy="792360"/>
          </a:xfrm>
          <a:custGeom>
            <a:avLst/>
            <a:gdLst/>
            <a:ahLst/>
            <a:rect l="l" t="t" r="r" b="b"/>
            <a:pathLst>
              <a:path w="1439862" h="792163">
                <a:moveTo>
                  <a:pt x="0" y="198041"/>
                </a:moveTo>
                <a:lnTo>
                  <a:pt x="24755" y="198041"/>
                </a:lnTo>
                <a:lnTo>
                  <a:pt x="24755" y="594122"/>
                </a:lnTo>
                <a:lnTo>
                  <a:pt x="0" y="594122"/>
                </a:lnTo>
                <a:lnTo>
                  <a:pt x="0" y="198041"/>
                </a:lnTo>
                <a:close/>
                <a:moveTo>
                  <a:pt x="49510" y="198041"/>
                </a:moveTo>
                <a:lnTo>
                  <a:pt x="99020" y="198041"/>
                </a:lnTo>
                <a:lnTo>
                  <a:pt x="99020" y="594122"/>
                </a:lnTo>
                <a:lnTo>
                  <a:pt x="49510" y="594122"/>
                </a:lnTo>
                <a:lnTo>
                  <a:pt x="49510" y="198041"/>
                </a:lnTo>
                <a:close/>
                <a:moveTo>
                  <a:pt x="123775" y="198041"/>
                </a:moveTo>
                <a:lnTo>
                  <a:pt x="1043781" y="198041"/>
                </a:lnTo>
                <a:lnTo>
                  <a:pt x="1043781" y="0"/>
                </a:lnTo>
                <a:lnTo>
                  <a:pt x="1439862" y="396082"/>
                </a:lnTo>
                <a:lnTo>
                  <a:pt x="1043781" y="792163"/>
                </a:lnTo>
                <a:lnTo>
                  <a:pt x="1043781" y="594122"/>
                </a:lnTo>
                <a:lnTo>
                  <a:pt x="123775" y="594122"/>
                </a:lnTo>
                <a:lnTo>
                  <a:pt x="123775" y="198041"/>
                </a:lnTo>
                <a:close/>
              </a:path>
            </a:pathLst>
          </a:custGeom>
          <a:solidFill>
            <a:srgbClr val="000000"/>
          </a:solidFill>
          <a:ln w="11520">
            <a:solidFill>
              <a:srgbClr val="a2a2a2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e 4"/>
          <p:cNvSpPr/>
          <p:nvPr/>
        </p:nvSpPr>
        <p:spPr>
          <a:xfrm>
            <a:off x="3000240" y="642960"/>
            <a:ext cx="5357880" cy="1285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Connettore 1 6"/>
          <p:cNvSpPr/>
          <p:nvPr/>
        </p:nvSpPr>
        <p:spPr>
          <a:xfrm>
            <a:off x="7164360" y="1197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Connettore 1 8"/>
          <p:cNvSpPr/>
          <p:nvPr/>
        </p:nvSpPr>
        <p:spPr>
          <a:xfrm>
            <a:off x="3492360" y="134136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189000"/>
            <a:ext cx="85345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it-IT" sz="5400" spc="-1" strike="noStrike">
                <a:solidFill>
                  <a:srgbClr val="000000"/>
                </a:solidFill>
                <a:latin typeface="Georgia"/>
                <a:ea typeface="Arial"/>
              </a:rPr>
              <a:t>Materiali e Metodi</a:t>
            </a:r>
            <a:endParaRPr b="0" lang="en-US" sz="54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68360" y="2060280"/>
            <a:ext cx="8207280" cy="4105080"/>
          </a:xfrm>
          <a:prstGeom prst="rect">
            <a:avLst/>
          </a:prstGeom>
          <a:solidFill>
            <a:srgbClr val="f8f8f8"/>
          </a:solidFill>
          <a:ln w="38160">
            <a:solidFill>
              <a:srgbClr val="7f7f7f"/>
            </a:solidFill>
            <a:miter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 u="sng">
                <a:solidFill>
                  <a:srgbClr val="000000"/>
                </a:solidFill>
                <a:uFillTx/>
                <a:latin typeface="Georgia"/>
              </a:rPr>
              <a:t>Gennaio 1980- Dicembre 2003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5717 pazienti con tumore della mammella sottoposte a </a:t>
            </a:r>
            <a:r>
              <a:rPr b="0" lang="it-IT" sz="2700" spc="-1" strike="noStrike" u="sng">
                <a:solidFill>
                  <a:srgbClr val="000000"/>
                </a:solidFill>
                <a:uFillTx/>
                <a:latin typeface="Georgia"/>
              </a:rPr>
              <a:t>chirurgia conservativa</a:t>
            </a: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 e radioterap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buClr>
                <a:srgbClr val="60606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Follow up mediano: 6.8 anni (range, 1–27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buClr>
                <a:srgbClr val="60606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Età media: 55 anni (range:30-80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buClr>
                <a:srgbClr val="7f7f7f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≤ 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56 anni: 2862 (50.1%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buClr>
                <a:srgbClr val="7f7f7f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≥ 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56 anni: 2855 (49.9%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buClr>
                <a:srgbClr val="4747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  <a:ea typeface="Arial"/>
              </a:rPr>
              <a:t>Nessuna evidenza di metastasi alla diagnos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9" name=""/>
          <p:cNvGraphicFramePr/>
          <p:nvPr/>
        </p:nvGraphicFramePr>
        <p:xfrm>
          <a:off x="179280" y="189000"/>
          <a:ext cx="8785440" cy="619272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487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aratteristi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N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68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.165 (72.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294 (22.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61    (2.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4    (1.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58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&gt;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173 (73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07 (19.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37   (7.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1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moxif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951 (51.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766 (48.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21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emiotera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181 (73.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35 (26.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Georgia"/>
                <a:ea typeface="Arial"/>
              </a:rPr>
              <a:t>Materiali e Metodi</a:t>
            </a:r>
            <a:endParaRPr b="0" lang="en-US" sz="4400" spc="-1" strike="noStrike">
              <a:solidFill>
                <a:srgbClr val="838383"/>
              </a:solidFill>
              <a:latin typeface="Georgi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01320" y="2000160"/>
            <a:ext cx="8504280" cy="3949920"/>
          </a:xfrm>
          <a:prstGeom prst="rect">
            <a:avLst/>
          </a:prstGeom>
          <a:solidFill>
            <a:srgbClr val="f8f8f8"/>
          </a:solidFill>
          <a:ln w="57240">
            <a:solidFill>
              <a:srgbClr val="a6a6a6"/>
            </a:solidFill>
            <a:miter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Tutte le pz sono state sottoposte a Whole Breast Irradi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Georgia"/>
              </a:rPr>
              <a:t>Nessuna pz è stata sottoposta ad irradiazione delle stazioni linfonodali regionali</a:t>
            </a: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59595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2 Campi tangent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Dose media: 50 Gy (range: 46-52 Gy) con frazionamento standard di 2 Gy/fx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Boost con elettroni (10/20 Gy a seconda dei margini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orgia"/>
              </a:rPr>
              <a:t>Linfonodi ascellari positivi (PAN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dddd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93" name="Freccia in giù 4"/>
          <p:cNvGrpSpPr/>
          <p:nvPr/>
        </p:nvGrpSpPr>
        <p:grpSpPr>
          <a:xfrm>
            <a:off x="3687840" y="2266920"/>
            <a:ext cx="1622520" cy="1751040"/>
            <a:chOff x="3687840" y="2266920"/>
            <a:chExt cx="1622520" cy="1751040"/>
          </a:xfrm>
        </p:grpSpPr>
        <p:pic>
          <p:nvPicPr>
            <p:cNvPr id="694" name="Freccia in giù 4" descr=""/>
            <p:cNvPicPr/>
            <p:nvPr/>
          </p:nvPicPr>
          <p:blipFill>
            <a:blip r:embed="rId1"/>
            <a:stretch/>
          </p:blipFill>
          <p:spPr>
            <a:xfrm>
              <a:off x="3687840" y="2266920"/>
              <a:ext cx="162252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4103640" y="2276640"/>
              <a:ext cx="79236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Freccia in giù 5"/>
          <p:cNvGrpSpPr/>
          <p:nvPr/>
        </p:nvGrpSpPr>
        <p:grpSpPr>
          <a:xfrm>
            <a:off x="6784920" y="2266920"/>
            <a:ext cx="1835280" cy="2755800"/>
            <a:chOff x="6784920" y="2266920"/>
            <a:chExt cx="1835280" cy="2755800"/>
          </a:xfrm>
        </p:grpSpPr>
        <p:pic>
          <p:nvPicPr>
            <p:cNvPr id="697" name="Freccia in giù 5" descr=""/>
            <p:cNvPicPr/>
            <p:nvPr/>
          </p:nvPicPr>
          <p:blipFill>
            <a:blip r:embed="rId2"/>
            <a:stretch/>
          </p:blipFill>
          <p:spPr>
            <a:xfrm>
              <a:off x="6784920" y="2266920"/>
              <a:ext cx="1835280" cy="27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7254720" y="2276640"/>
              <a:ext cx="90036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Freccia in giù 3"/>
          <p:cNvGrpSpPr/>
          <p:nvPr/>
        </p:nvGrpSpPr>
        <p:grpSpPr>
          <a:xfrm>
            <a:off x="725400" y="2200320"/>
            <a:ext cx="1500120" cy="738000"/>
            <a:chOff x="725400" y="2200320"/>
            <a:chExt cx="1500120" cy="738000"/>
          </a:xfrm>
        </p:grpSpPr>
        <p:pic>
          <p:nvPicPr>
            <p:cNvPr id="700" name="Freccia in giù 3" descr=""/>
            <p:cNvPicPr/>
            <p:nvPr/>
          </p:nvPicPr>
          <p:blipFill>
            <a:blip r:embed="rId3"/>
            <a:stretch/>
          </p:blipFill>
          <p:spPr>
            <a:xfrm>
              <a:off x="725400" y="2200320"/>
              <a:ext cx="150012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1116000" y="2205000"/>
              <a:ext cx="7192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Rettangolo 6"/>
          <p:cNvSpPr/>
          <p:nvPr/>
        </p:nvSpPr>
        <p:spPr>
          <a:xfrm>
            <a:off x="611280" y="3068640"/>
            <a:ext cx="1800000" cy="86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P1: no 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ttangolo 9"/>
          <p:cNvSpPr/>
          <p:nvPr/>
        </p:nvSpPr>
        <p:spPr>
          <a:xfrm>
            <a:off x="3419640" y="4149720"/>
            <a:ext cx="2160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P2: 1-3 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ttangolo 10"/>
          <p:cNvSpPr/>
          <p:nvPr/>
        </p:nvSpPr>
        <p:spPr>
          <a:xfrm>
            <a:off x="6588000" y="5157720"/>
            <a:ext cx="216072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P3: &gt;3 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5" name=""/>
          <p:cNvGraphicFramePr/>
          <p:nvPr/>
        </p:nvGraphicFramePr>
        <p:xfrm>
          <a:off x="179280" y="1341360"/>
          <a:ext cx="8785440" cy="532944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762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                                                     </a:t>
                      </a: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N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5f5f5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</a:rPr>
                        <a:t>Recidiva Lo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mme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vraclave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>
                      <a:noFill/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383 (94.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51   (4.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3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1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52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</a:rPr>
                        <a:t>Metastasi a dista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>
                      <a:noFill/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210 (91.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7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(8.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</a:rPr>
                        <a:t>St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Vi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or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>
                      <a:noFill/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165 (90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52   (9.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706" name="CasellaDiTesto 2"/>
          <p:cNvSpPr/>
          <p:nvPr/>
        </p:nvSpPr>
        <p:spPr>
          <a:xfrm>
            <a:off x="2124000" y="26028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Georgia"/>
              </a:rPr>
              <a:t>Risulta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Georgia"/>
              </a:rPr>
              <a:t>Distribuzione dei 5717 casi di tumore della mammella in accordo al numero di linfonodi positivi, ricaduta locale , metastasi a distanza, stato </a:t>
            </a:r>
            <a:endParaRPr b="0" lang="en-US" sz="1600" spc="-1" strike="noStrike">
              <a:solidFill>
                <a:srgbClr val="838383"/>
              </a:solidFill>
              <a:latin typeface="Georgia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142920" y="1357200"/>
          <a:ext cx="8858160" cy="5024520"/>
        </p:xfrm>
        <a:graphic>
          <a:graphicData uri="http://schemas.openxmlformats.org/drawingml/2006/table">
            <a:tbl>
              <a:tblPr/>
              <a:tblGrid>
                <a:gridCol w="3147840"/>
                <a:gridCol w="1830600"/>
                <a:gridCol w="1463760"/>
                <a:gridCol w="1317600"/>
                <a:gridCol w="1098360"/>
              </a:tblGrid>
              <a:tr h="973080"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N° di linfonodi ascell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Varia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&gt;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137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ecid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Mamme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Sovraclave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932 (94.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6   (4.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5   (0.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50(94.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3  (3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4  (2.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01 (91.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  (2.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4   (5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ef"/>
                    </a:solidFill>
                  </a:tcPr>
                </a:tc>
              </a:tr>
              <a:tr h="106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tasta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918 (93.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55  (6.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74 (88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3 (12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18 (72.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9 (27.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106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V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Mor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895 (93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78  (6.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61 (86.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6 (13.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09 (70.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8 (29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  <p:sp>
        <p:nvSpPr>
          <p:cNvPr id="709" name="Ovale 4"/>
          <p:cNvSpPr/>
          <p:nvPr/>
        </p:nvSpPr>
        <p:spPr>
          <a:xfrm>
            <a:off x="7164360" y="3716280"/>
            <a:ext cx="64764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e 5"/>
          <p:cNvSpPr/>
          <p:nvPr/>
        </p:nvSpPr>
        <p:spPr>
          <a:xfrm>
            <a:off x="7072200" y="4797360"/>
            <a:ext cx="72072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eorgia"/>
              </a:rPr>
              <a:t>Cox Regression model per identificare i fattori predittivi di morte nei tre gruppi di pazienti secondo il numero dei linfonodi positivi</a:t>
            </a:r>
            <a:endParaRPr b="0" lang="en-US" sz="1800" spc="-1" strike="noStrike">
              <a:solidFill>
                <a:srgbClr val="838383"/>
              </a:solidFill>
              <a:latin typeface="Georgia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179280" y="1413000"/>
          <a:ext cx="8785440" cy="496872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336680"/>
                <a:gridCol w="2178000"/>
              </a:tblGrid>
              <a:tr h="122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N° di linfonodi positi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Variab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arametr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tima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HR (95% C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85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99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tast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2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0.3 (41.7-118.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66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&gt;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tast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4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1.5 (17.3- 57.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13" name="Ovale 4"/>
          <p:cNvSpPr/>
          <p:nvPr/>
        </p:nvSpPr>
        <p:spPr>
          <a:xfrm>
            <a:off x="5580000" y="5068800"/>
            <a:ext cx="100800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y</dc:creator>
  <dc:description/>
  <dc:language>en-US</dc:language>
  <cp:lastModifiedBy>tecno</cp:lastModifiedBy>
  <dcterms:modified xsi:type="dcterms:W3CDTF">2010-11-14T09:19:02Z</dcterms:modified>
  <cp:revision>231</cp:revision>
  <dc:subject/>
  <dc:title>Outcome after conservative surgery and breast irradiation in 5717 patients with breast  cancer: implications for supraclavicular nodal irradiation</dc:title>
</cp:coreProperties>
</file>