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41A7-0EF6-4834-BA9D-0F35E0DD18E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alibri"/>
              </a:rPr>
              <a:t>La tecnica utilizzata è tang o 3D conformata con fotoni 6-MV o più secondo necessità. Un adeguato margine (0.5-1cm) deve essere aggiunto al CTV per compensare gli errori di set-up e il movim dell’internal margin per la definizione del corrispondente PT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alibri"/>
              </a:rPr>
              <a:t>La tecnica utilizzata è tang o 3D conformata con fotoni 6-MV o più secondo necessità. Un adeguato margine (0.5-1cm) deve essere aggiunto al CTV per compensare gli errori di set-up e il movim dell’internal margin per la definizione del corrispondente PT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2268-FA3B-4E0B-8FF5-46BA16EEFF7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alibri"/>
              </a:rPr>
              <a:t>In ambito radioiolog, alcuni autori hanno identificato una “reg di alta sensibilità” (HRS) nella risposta della SV cell alla irradiazione a dosi inf a 0.5 Gy.A basse dosi, &lt;10 cGy, le cell mostrano una iper-radiosensibilità che può essere caratt da una pendenza (</a:t>
            </a:r>
            <a:r>
              <a:rPr b="0" lang="el-GR" sz="9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it-IT" sz="900" spc="-1" strike="noStrike">
                <a:solidFill>
                  <a:srgbClr val="000000"/>
                </a:solidFill>
                <a:latin typeface="Calibri"/>
              </a:rPr>
              <a:t>s).Tra 20 e 80cGy è presente una zona di transizione che è stata definita ad “aumentata radioresistenza”(IRR).Le basse dosi eliminerebbero le cell preval nella fase sensib del ciclo e che la HRS non stimola i meccanismi di riparaz del danno cell.I dati precl docum che l’espress del fenom dell’HRS si manifesta per dosi sino a 80cGy e che la somministrazione frazionata agisce in vitro sinergic con la CT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alibri"/>
              </a:rPr>
              <a:t>La prima e la seconda frazione vengono somministrate il 1° giorno e terza e quarta fraz il 2°giorno, distanziate di almeno 6-8 or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La grandezza media del tumore alla RM prima del trattamento era 4.8 cm (2.2-8 cm) e dopo 1.98 ( 0.6-6 cm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alibri"/>
              </a:rPr>
              <a:t>La pz viene simulata in posiz supina con appositi sistemi di immobilizzazion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alibri"/>
              </a:rPr>
              <a:t>RM esame non di routine. L’aspetto morfologico del tumore mammario alla RM è variabile e sembra essere predittivo di risposta alla terapia. Sono in corso diversi studi per validare l’utilizzo della RM nello staging di pz sottoposte a tp neoadiuvante per quantificare precocemente la risposta al trattament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9F8-C474-4838-B036-3D4939C1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00BF-0650-4A64-AFA0-13C8C8C4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408-CC52-4BF8-96CA-1E493EB0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160-015F-4359-9E47-943C5DF4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174-F98E-4D95-900B-46036A79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604-FC58-4816-BB8F-7DC035F1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565-87CC-47A1-A382-2A483E66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695-801F-4DEF-890A-5B01FCB8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B85-1D38-43BE-AFC5-42DEBAB5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2EC-05DA-4AB9-8DE8-1E6C92F4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76F-045E-4D8C-99DA-7D86328D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09C6-7A18-4AC2-8F1C-158BF764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68CE-B1F3-4E16-89DF-F5CC1F84A40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2101320"/>
            <a:ext cx="784836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d2d8a"/>
                </a:solidFill>
                <a:latin typeface="Arial"/>
              </a:rPr>
              <a:t>Confronto tra i volumi di irradiazione del sovradosaggio in pazienti sottoposte a trattamento neoadiuvante per il tumore della mamm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5013360"/>
            <a:ext cx="7921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.C. De Sant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. Nardone, L. Marino, G.R. D’Agostin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. Meduri, D. Terribile, G. Franceschini, A. Mulè, G. Mantin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C. Mattiucci, V. Valent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914840" y="260280"/>
            <a:ext cx="54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iversità Cattolica del Sacro Cuore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partimento di Bioimmagini e Scienze Radiologiche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tedra di Radioterap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http://cratos.pc.unicatt.it/immagini/unicatt.jpg"/>
          <p:cNvPicPr/>
          <p:nvPr/>
        </p:nvPicPr>
        <p:blipFill>
          <a:blip r:embed="rId1"/>
          <a:stretch/>
        </p:blipFill>
        <p:spPr>
          <a:xfrm>
            <a:off x="11916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3" descr="Airostemmabianco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826920" y="1700280"/>
            <a:ext cx="676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ptok"/>
          <p:cNvPicPr/>
          <p:nvPr/>
        </p:nvPicPr>
        <p:blipFill>
          <a:blip r:embed="rId1"/>
          <a:srcRect l="650" t="2727" r="50357" b="50948"/>
          <a:stretch/>
        </p:blipFill>
        <p:spPr>
          <a:xfrm>
            <a:off x="243000" y="2349360"/>
            <a:ext cx="4400280" cy="2592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1"/>
          <p:cNvSpPr/>
          <p:nvPr/>
        </p:nvSpPr>
        <p:spPr>
          <a:xfrm>
            <a:off x="539640" y="476280"/>
            <a:ext cx="7848720" cy="9144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IANO DI TRAT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C:\Documents and Settings\10099\Documenti\Download\boost baldascini 1.jpg"/>
          <p:cNvPicPr/>
          <p:nvPr/>
        </p:nvPicPr>
        <p:blipFill>
          <a:blip r:embed="rId2"/>
          <a:srcRect l="16064" t="5352" r="0" b="24669"/>
          <a:stretch/>
        </p:blipFill>
        <p:spPr>
          <a:xfrm>
            <a:off x="4788000" y="2357280"/>
            <a:ext cx="410508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826920" y="1700280"/>
            <a:ext cx="676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539640" y="476280"/>
            <a:ext cx="7848720" cy="9144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OLUMI DI TRAT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C:\Documents and Settings\10099\Documenti\Download\volume rosales 1.jpg"/>
          <p:cNvPicPr/>
          <p:nvPr/>
        </p:nvPicPr>
        <p:blipFill>
          <a:blip r:embed="rId1"/>
          <a:srcRect l="15971" t="5669" r="41672" b="24208"/>
          <a:stretch/>
        </p:blipFill>
        <p:spPr>
          <a:xfrm>
            <a:off x="268200" y="1555920"/>
            <a:ext cx="4176720" cy="5186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Documents and Settings\10099\Documenti\Download\volume baldascini 1.jpg"/>
          <p:cNvPicPr/>
          <p:nvPr/>
        </p:nvPicPr>
        <p:blipFill>
          <a:blip r:embed="rId2"/>
          <a:srcRect l="15943" t="5798" r="42029" b="24639"/>
          <a:stretch/>
        </p:blipFill>
        <p:spPr>
          <a:xfrm>
            <a:off x="4630680" y="1557360"/>
            <a:ext cx="4162320" cy="51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324000" y="1700280"/>
          <a:ext cx="4103640" cy="3292560"/>
        </p:xfrm>
        <a:graphic>
          <a:graphicData uri="http://schemas.openxmlformats.org/drawingml/2006/table">
            <a:tbl>
              <a:tblPr/>
              <a:tblGrid>
                <a:gridCol w="1152360"/>
                <a:gridCol w="719280"/>
                <a:gridCol w="865080"/>
                <a:gridCol w="719280"/>
                <a:gridCol w="6476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nical st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 of the Boo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m</a:t>
                      </a:r>
                      <a:r>
                        <a:rPr b="1" lang="it-IT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cycles of 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3N0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0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3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3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3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3 TRG 2 TRG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Rectangle 11"/>
          <p:cNvSpPr/>
          <p:nvPr/>
        </p:nvSpPr>
        <p:spPr>
          <a:xfrm>
            <a:off x="539640" y="476280"/>
            <a:ext cx="7848720" cy="9144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43280" y="1700280"/>
          <a:ext cx="4105440" cy="3292560"/>
        </p:xfrm>
        <a:graphic>
          <a:graphicData uri="http://schemas.openxmlformats.org/drawingml/2006/table">
            <a:tbl>
              <a:tblPr/>
              <a:tblGrid>
                <a:gridCol w="1152720"/>
                <a:gridCol w="719280"/>
                <a:gridCol w="865080"/>
                <a:gridCol w="718920"/>
                <a:gridCol w="6494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nical st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 of the Tum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m</a:t>
                      </a:r>
                      <a:r>
                        <a:rPr b="1" lang="it-IT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cycles of CT + LD-F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3N0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0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3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3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3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4 TRG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CasellaDiTesto 7"/>
          <p:cNvSpPr/>
          <p:nvPr/>
        </p:nvSpPr>
        <p:spPr>
          <a:xfrm>
            <a:off x="1414800" y="521964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TRG 1 e 2 = 30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sellaDiTesto 8"/>
          <p:cNvSpPr/>
          <p:nvPr/>
        </p:nvSpPr>
        <p:spPr>
          <a:xfrm>
            <a:off x="5665320" y="521964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b050"/>
                </a:solidFill>
                <a:latin typeface="Arial"/>
              </a:rPr>
              <a:t>TRG 1 e 2 = 61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9"/>
          <p:cNvSpPr/>
          <p:nvPr/>
        </p:nvSpPr>
        <p:spPr>
          <a:xfrm>
            <a:off x="179280" y="566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Median volume of the boost = 298 cm</a:t>
            </a:r>
            <a:r>
              <a:rPr b="1" lang="it-IT" sz="1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(range 125-4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0"/>
          <p:cNvSpPr/>
          <p:nvPr/>
        </p:nvSpPr>
        <p:spPr>
          <a:xfrm>
            <a:off x="4597560" y="56610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b050"/>
                </a:solidFill>
                <a:latin typeface="Arial"/>
              </a:rPr>
              <a:t>Median volume of the boost = 185 cm</a:t>
            </a:r>
            <a:r>
              <a:rPr b="1" lang="it-IT" sz="1800" spc="-1" strike="noStrike" baseline="30000">
                <a:solidFill>
                  <a:srgbClr val="00b050"/>
                </a:solidFill>
                <a:latin typeface="Arial"/>
              </a:rPr>
              <a:t>3</a:t>
            </a:r>
            <a:r>
              <a:rPr b="1" lang="it-IT" sz="1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1" lang="it-IT" sz="1800" spc="-1" strike="noStrike">
                <a:solidFill>
                  <a:srgbClr val="00b050"/>
                </a:solidFill>
                <a:latin typeface="Arial"/>
              </a:rPr>
              <a:t>(range 35-3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65"/>
          <p:cNvSpPr/>
          <p:nvPr/>
        </p:nvSpPr>
        <p:spPr>
          <a:xfrm>
            <a:off x="3843360" y="2924280"/>
            <a:ext cx="515880" cy="21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5"/>
          <p:cNvSpPr/>
          <p:nvPr/>
        </p:nvSpPr>
        <p:spPr>
          <a:xfrm>
            <a:off x="3851280" y="3645000"/>
            <a:ext cx="515880" cy="576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5"/>
          <p:cNvSpPr/>
          <p:nvPr/>
        </p:nvSpPr>
        <p:spPr>
          <a:xfrm>
            <a:off x="8172360" y="2738520"/>
            <a:ext cx="515880" cy="21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5"/>
          <p:cNvSpPr/>
          <p:nvPr/>
        </p:nvSpPr>
        <p:spPr>
          <a:xfrm>
            <a:off x="8172360" y="3095640"/>
            <a:ext cx="515880" cy="216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5"/>
          <p:cNvSpPr/>
          <p:nvPr/>
        </p:nvSpPr>
        <p:spPr>
          <a:xfrm>
            <a:off x="8161200" y="3463920"/>
            <a:ext cx="514440" cy="216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5"/>
          <p:cNvSpPr/>
          <p:nvPr/>
        </p:nvSpPr>
        <p:spPr>
          <a:xfrm>
            <a:off x="8164440" y="3835440"/>
            <a:ext cx="514440" cy="936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sellaDiTesto 7"/>
          <p:cNvSpPr/>
          <p:nvPr/>
        </p:nvSpPr>
        <p:spPr>
          <a:xfrm>
            <a:off x="3778560" y="6237360"/>
            <a:ext cx="1404360" cy="398880"/>
          </a:xfrm>
          <a:prstGeom prst="rect">
            <a:avLst/>
          </a:prstGeom>
          <a:noFill/>
          <a:ln w="64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p = 0.0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1"/>
          <p:cNvSpPr/>
          <p:nvPr/>
        </p:nvSpPr>
        <p:spPr>
          <a:xfrm>
            <a:off x="539640" y="476280"/>
            <a:ext cx="7848720" cy="9144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682560" y="1700280"/>
            <a:ext cx="748980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migliore localizzazione del target può permettere una migliore affidabilità della sede del boost e un minore volume di irradi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maggior numero di anni di follow-up ci permetterà di valutare il controllo loc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http://napolibella.bravepages.com/Image4/Mergellina.jpg"/>
          <p:cNvPicPr/>
          <p:nvPr/>
        </p:nvPicPr>
        <p:blipFill>
          <a:blip r:embed="rId1"/>
          <a:stretch/>
        </p:blipFill>
        <p:spPr>
          <a:xfrm>
            <a:off x="9360" y="-27000"/>
            <a:ext cx="9126720" cy="6885000"/>
          </a:xfrm>
          <a:prstGeom prst="rect">
            <a:avLst/>
          </a:prstGeom>
          <a:ln w="0">
            <a:noFill/>
          </a:ln>
        </p:spPr>
      </p:pic>
      <p:pic>
        <p:nvPicPr>
          <p:cNvPr id="189" name="CasellaDiTesto 3" descr=""/>
          <p:cNvPicPr/>
          <p:nvPr/>
        </p:nvPicPr>
        <p:blipFill>
          <a:blip r:embed="rId2"/>
          <a:stretch/>
        </p:blipFill>
        <p:spPr>
          <a:xfrm>
            <a:off x="512640" y="115920"/>
            <a:ext cx="805824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F:\Immagine1.png"/>
          <p:cNvPicPr/>
          <p:nvPr/>
        </p:nvPicPr>
        <p:blipFill>
          <a:blip r:embed="rId1"/>
          <a:stretch/>
        </p:blipFill>
        <p:spPr>
          <a:xfrm>
            <a:off x="4716360" y="1859040"/>
            <a:ext cx="3641760" cy="3657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250920" y="274680"/>
            <a:ext cx="843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3"/>
          <p:cNvGraphicFramePr/>
          <p:nvPr/>
        </p:nvGraphicFramePr>
        <p:xfrm>
          <a:off x="250920" y="1855800"/>
          <a:ext cx="4038480" cy="40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855800"/>
                    <a:ext cx="403848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4"/>
          <p:cNvSpPr/>
          <p:nvPr/>
        </p:nvSpPr>
        <p:spPr>
          <a:xfrm>
            <a:off x="119160" y="647064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hort et al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1476360" y="2133720"/>
            <a:ext cx="0" cy="3384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1116000" y="2133720"/>
            <a:ext cx="0" cy="3384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539640" y="476280"/>
            <a:ext cx="7848720" cy="9144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T A BASSE DOSI (LD-F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324000" y="1660680"/>
            <a:ext cx="8135640" cy="454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adioterapia a basse dosi sincronizza il ciclo cellul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Maggiore attività dei farmaci ciclo specifi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ffetto add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anno sub-letale RT + danno 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1"/>
          <p:cNvSpPr/>
          <p:nvPr/>
        </p:nvSpPr>
        <p:spPr>
          <a:xfrm>
            <a:off x="539640" y="476280"/>
            <a:ext cx="7848720" cy="9144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T A BASSE DOSI (LD-F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865080" y="1766880"/>
            <a:ext cx="6515280" cy="2670120"/>
            <a:chOff x="865080" y="1766880"/>
            <a:chExt cx="6515280" cy="2670120"/>
          </a:xfrm>
        </p:grpSpPr>
        <p:sp>
          <p:nvSpPr>
            <p:cNvPr id="65" name="AutoShape 5"/>
            <p:cNvSpPr/>
            <p:nvPr/>
          </p:nvSpPr>
          <p:spPr>
            <a:xfrm>
              <a:off x="865080" y="1766880"/>
              <a:ext cx="6515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1893600" y="1766880"/>
              <a:ext cx="1143000" cy="668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afd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RT-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8"/>
            <p:cNvSpPr/>
            <p:nvPr/>
          </p:nvSpPr>
          <p:spPr>
            <a:xfrm>
              <a:off x="6694560" y="2545920"/>
              <a:ext cx="114120" cy="826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"/>
            <p:cNvSpPr/>
            <p:nvPr/>
          </p:nvSpPr>
          <p:spPr>
            <a:xfrm>
              <a:off x="865080" y="25459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LD-FRT     (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40cGy /fraction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0"/>
            <p:cNvSpPr/>
            <p:nvPr/>
          </p:nvSpPr>
          <p:spPr>
            <a:xfrm>
              <a:off x="2579400" y="2545920"/>
              <a:ext cx="114120" cy="826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036600" y="2545920"/>
              <a:ext cx="114120" cy="826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3951360" y="2545920"/>
              <a:ext cx="114120" cy="826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3"/>
            <p:cNvSpPr/>
            <p:nvPr/>
          </p:nvSpPr>
          <p:spPr>
            <a:xfrm>
              <a:off x="4408560" y="2545920"/>
              <a:ext cx="114120" cy="826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4637160" y="2768040"/>
              <a:ext cx="1943280" cy="33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1 gior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5"/>
            <p:cNvSpPr/>
            <p:nvPr/>
          </p:nvSpPr>
          <p:spPr>
            <a:xfrm>
              <a:off x="2579400" y="2637000"/>
              <a:ext cx="5713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6"/>
            <p:cNvSpPr/>
            <p:nvPr/>
          </p:nvSpPr>
          <p:spPr>
            <a:xfrm>
              <a:off x="2693880" y="3101760"/>
              <a:ext cx="342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1207800" y="3769560"/>
              <a:ext cx="5943960" cy="55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8"/>
            <p:cNvSpPr/>
            <p:nvPr/>
          </p:nvSpPr>
          <p:spPr>
            <a:xfrm>
              <a:off x="4038120" y="2465280"/>
              <a:ext cx="45720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9"/>
            <p:cNvSpPr/>
            <p:nvPr/>
          </p:nvSpPr>
          <p:spPr>
            <a:xfrm>
              <a:off x="4065480" y="3101760"/>
              <a:ext cx="342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0"/>
          <p:cNvSpPr/>
          <p:nvPr/>
        </p:nvSpPr>
        <p:spPr>
          <a:xfrm>
            <a:off x="3174840" y="1773360"/>
            <a:ext cx="3611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CT  1° gio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Myocet   50 mg/m</a:t>
            </a:r>
            <a:r>
              <a:rPr b="1" lang="it-IT" sz="1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 :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al 1° al 4° cic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Taxotere 75 mg/m</a:t>
            </a:r>
            <a:r>
              <a:rPr b="1" lang="it-IT" sz="12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al 5° al 8° cic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1"/>
          <p:cNvGrpSpPr/>
          <p:nvPr/>
        </p:nvGrpSpPr>
        <p:grpSpPr>
          <a:xfrm>
            <a:off x="900000" y="4287960"/>
            <a:ext cx="6515280" cy="2670120"/>
            <a:chOff x="900000" y="4287960"/>
            <a:chExt cx="6515280" cy="2670120"/>
          </a:xfrm>
        </p:grpSpPr>
        <p:sp>
          <p:nvSpPr>
            <p:cNvPr id="81" name="AutoShape 22"/>
            <p:cNvSpPr/>
            <p:nvPr/>
          </p:nvSpPr>
          <p:spPr>
            <a:xfrm>
              <a:off x="900000" y="4287960"/>
              <a:ext cx="6515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3"/>
            <p:cNvSpPr/>
            <p:nvPr/>
          </p:nvSpPr>
          <p:spPr>
            <a:xfrm>
              <a:off x="1928520" y="4287960"/>
              <a:ext cx="1143000" cy="668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afd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RT-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4"/>
            <p:cNvSpPr/>
            <p:nvPr/>
          </p:nvSpPr>
          <p:spPr>
            <a:xfrm>
              <a:off x="2043000" y="5940000"/>
              <a:ext cx="3200400" cy="52020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° giorno               2° giorno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5"/>
            <p:cNvSpPr/>
            <p:nvPr/>
          </p:nvSpPr>
          <p:spPr>
            <a:xfrm>
              <a:off x="6729480" y="5067000"/>
              <a:ext cx="114120" cy="826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6"/>
            <p:cNvSpPr/>
            <p:nvPr/>
          </p:nvSpPr>
          <p:spPr>
            <a:xfrm>
              <a:off x="900000" y="50670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LD-FRT     (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40cGy /fraction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2614320" y="5067000"/>
              <a:ext cx="114120" cy="826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8"/>
            <p:cNvSpPr/>
            <p:nvPr/>
          </p:nvSpPr>
          <p:spPr>
            <a:xfrm>
              <a:off x="3071520" y="5067000"/>
              <a:ext cx="114120" cy="826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9"/>
            <p:cNvSpPr/>
            <p:nvPr/>
          </p:nvSpPr>
          <p:spPr>
            <a:xfrm>
              <a:off x="3986280" y="5067000"/>
              <a:ext cx="114120" cy="826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0"/>
            <p:cNvSpPr/>
            <p:nvPr/>
          </p:nvSpPr>
          <p:spPr>
            <a:xfrm>
              <a:off x="4443480" y="5067000"/>
              <a:ext cx="114120" cy="826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31"/>
            <p:cNvSpPr/>
            <p:nvPr/>
          </p:nvSpPr>
          <p:spPr>
            <a:xfrm>
              <a:off x="4672080" y="5289120"/>
              <a:ext cx="1943280" cy="33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1 gior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2"/>
            <p:cNvSpPr/>
            <p:nvPr/>
          </p:nvSpPr>
          <p:spPr>
            <a:xfrm>
              <a:off x="2601000" y="5185440"/>
              <a:ext cx="5713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3"/>
            <p:cNvSpPr/>
            <p:nvPr/>
          </p:nvSpPr>
          <p:spPr>
            <a:xfrm>
              <a:off x="2728800" y="5622840"/>
              <a:ext cx="342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4"/>
            <p:cNvSpPr/>
            <p:nvPr/>
          </p:nvSpPr>
          <p:spPr>
            <a:xfrm>
              <a:off x="1242720" y="6290640"/>
              <a:ext cx="5943960" cy="55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5"/>
            <p:cNvSpPr/>
            <p:nvPr/>
          </p:nvSpPr>
          <p:spPr>
            <a:xfrm>
              <a:off x="4073040" y="4986720"/>
              <a:ext cx="45720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6"/>
            <p:cNvSpPr/>
            <p:nvPr/>
          </p:nvSpPr>
          <p:spPr>
            <a:xfrm>
              <a:off x="4100400" y="5622840"/>
              <a:ext cx="342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37"/>
          <p:cNvSpPr/>
          <p:nvPr/>
        </p:nvSpPr>
        <p:spPr>
          <a:xfrm>
            <a:off x="3203640" y="4292640"/>
            <a:ext cx="3611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CT  1° gio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Myocet   50 mg/m</a:t>
            </a:r>
            <a:r>
              <a:rPr b="1" lang="it-IT" sz="1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Taxotere 75 mg/m</a:t>
            </a:r>
            <a:r>
              <a:rPr b="1" lang="it-IT" sz="12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8"/>
          <p:cNvSpPr/>
          <p:nvPr/>
        </p:nvSpPr>
        <p:spPr>
          <a:xfrm>
            <a:off x="4788000" y="4508640"/>
            <a:ext cx="215640" cy="433080"/>
          </a:xfrm>
          <a:custGeom>
            <a:avLst/>
            <a:gdLst>
              <a:gd name="textAreaLeft" fmla="*/ 0 w 215640"/>
              <a:gd name="textAreaRight" fmla="*/ 77760 w 215640"/>
              <a:gd name="textAreaTop" fmla="*/ 11160 h 433080"/>
              <a:gd name="textAreaBottom" fmla="*/ 4219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148360" y="4594320"/>
            <a:ext cx="13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al 1°al 6°cic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7093080" y="1700280"/>
            <a:ext cx="1726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icli di CT: 8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      RT: 8 split cour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1"/>
          <p:cNvSpPr/>
          <p:nvPr/>
        </p:nvSpPr>
        <p:spPr>
          <a:xfrm>
            <a:off x="7093080" y="4221000"/>
            <a:ext cx="1726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icli di CT: 6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      RT: 6 split cour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3"/>
          <p:cNvSpPr/>
          <p:nvPr/>
        </p:nvSpPr>
        <p:spPr>
          <a:xfrm>
            <a:off x="7361640" y="25574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333399"/>
                </a:solidFill>
                <a:latin typeface="Arial"/>
              </a:rPr>
              <a:t>1280 c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4"/>
          <p:cNvSpPr/>
          <p:nvPr/>
        </p:nvSpPr>
        <p:spPr>
          <a:xfrm>
            <a:off x="7476120" y="50785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333399"/>
                </a:solidFill>
                <a:latin typeface="Arial"/>
              </a:rPr>
              <a:t>960 c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539640" y="476280"/>
            <a:ext cx="7848720" cy="9144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D-F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2023920" y="3429000"/>
            <a:ext cx="3200400" cy="52020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° giorno               2° giorno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826920" y="1700280"/>
            <a:ext cx="676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9640" y="1795320"/>
          <a:ext cx="7848720" cy="3330720"/>
        </p:xfrm>
        <a:graphic>
          <a:graphicData uri="http://schemas.openxmlformats.org/drawingml/2006/table">
            <a:tbl>
              <a:tblPr/>
              <a:tblGrid>
                <a:gridCol w="981360"/>
                <a:gridCol w="749160"/>
                <a:gridCol w="904680"/>
                <a:gridCol w="809640"/>
                <a:gridCol w="777960"/>
                <a:gridCol w="1293840"/>
                <a:gridCol w="1397160"/>
                <a:gridCol w="934920"/>
              </a:tblGrid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nical st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mor size (cm) in 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-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mor size(c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RM post RT-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holog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mor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hological st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cycles of RT-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3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0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3N2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. Tum.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pT1cN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pT1cN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pT1aN0(i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pT1micN0(i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pT1bN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cycles of RT-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2N1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3N0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. Tum.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pT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pT2N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pT1mic N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pT1aN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pT1a N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62"/>
          <p:cNvSpPr/>
          <p:nvPr/>
        </p:nvSpPr>
        <p:spPr>
          <a:xfrm>
            <a:off x="7524720" y="4437000"/>
            <a:ext cx="792360" cy="647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3"/>
          <p:cNvSpPr/>
          <p:nvPr/>
        </p:nvSpPr>
        <p:spPr>
          <a:xfrm>
            <a:off x="7524720" y="4076640"/>
            <a:ext cx="792360" cy="144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5"/>
          <p:cNvSpPr/>
          <p:nvPr/>
        </p:nvSpPr>
        <p:spPr>
          <a:xfrm>
            <a:off x="7524720" y="3500280"/>
            <a:ext cx="792360" cy="216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6"/>
          <p:cNvSpPr/>
          <p:nvPr/>
        </p:nvSpPr>
        <p:spPr>
          <a:xfrm>
            <a:off x="3068280" y="57340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TRG1 e TRG2: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30360" y="2924280"/>
          <a:ext cx="5905440" cy="2214360"/>
        </p:xfrm>
        <a:graphic>
          <a:graphicData uri="http://schemas.openxmlformats.org/drawingml/2006/table">
            <a:tbl>
              <a:tblPr/>
              <a:tblGrid>
                <a:gridCol w="2952720"/>
                <a:gridCol w="295272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ence of residual cancer and fibrosis extending through the bowel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ce of  rare residual cancer ce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in the number of residual cancer cell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idual cancer outgrowing fibro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G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ence of chan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Rectangle 110"/>
          <p:cNvSpPr/>
          <p:nvPr/>
        </p:nvSpPr>
        <p:spPr>
          <a:xfrm>
            <a:off x="0" y="459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7"/>
          <p:cNvSpPr/>
          <p:nvPr/>
        </p:nvSpPr>
        <p:spPr>
          <a:xfrm>
            <a:off x="8459640" y="3284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8"/>
          <p:cNvSpPr/>
          <p:nvPr/>
        </p:nvSpPr>
        <p:spPr>
          <a:xfrm>
            <a:off x="8460720" y="4476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539640" y="476280"/>
            <a:ext cx="7848720" cy="9144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141560" y="1481040"/>
          <a:ext cx="2693880" cy="5184720"/>
        </p:xfrm>
        <a:graphic>
          <a:graphicData uri="http://schemas.openxmlformats.org/drawingml/2006/table">
            <a:tbl>
              <a:tblPr/>
              <a:tblGrid>
                <a:gridCol w="2266920"/>
                <a:gridCol w="426960"/>
              </a:tblGrid>
              <a:tr h="155520"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 1 (13 PATIEN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0"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, years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metro del Tumore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opausal stat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menopausal                                                                 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menopaus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nical s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tolog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asive ductal canc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asive lobular canc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tologic gr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tiv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juvant chemotherap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iotherap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raclavicular lymph nod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juvant endocrine therap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moxifen +LHRH analo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omatase inhibito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-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1"/>
          <p:cNvSpPr/>
          <p:nvPr/>
        </p:nvSpPr>
        <p:spPr>
          <a:xfrm>
            <a:off x="539640" y="476280"/>
            <a:ext cx="7848720" cy="9144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RATTERISTICHE PAZI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932360" y="1484280"/>
          <a:ext cx="2638440" cy="5184720"/>
        </p:xfrm>
        <a:graphic>
          <a:graphicData uri="http://schemas.openxmlformats.org/drawingml/2006/table">
            <a:tbl>
              <a:tblPr/>
              <a:tblGrid>
                <a:gridCol w="2266920"/>
                <a:gridCol w="371520"/>
              </a:tblGrid>
              <a:tr h="155520"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 2 (13 PATIEN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0"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, years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metro del Tumore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opausal stat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menopaus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menopaus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nical s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tolog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asive ductal canc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asive lobular canc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tologic gr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tiv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juvant chemotherap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iotherap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raclavicular lymph nod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juvant endocrine therap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moxifen +LHRH analo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omatase inhibito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-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1"/>
          <p:cNvGrpSpPr/>
          <p:nvPr/>
        </p:nvGrpSpPr>
        <p:grpSpPr>
          <a:xfrm>
            <a:off x="811080" y="4287960"/>
            <a:ext cx="6604200" cy="2670120"/>
            <a:chOff x="811080" y="4287960"/>
            <a:chExt cx="6604200" cy="2670120"/>
          </a:xfrm>
        </p:grpSpPr>
        <p:sp>
          <p:nvSpPr>
            <p:cNvPr id="120" name="AutoShape 22"/>
            <p:cNvSpPr/>
            <p:nvPr/>
          </p:nvSpPr>
          <p:spPr>
            <a:xfrm>
              <a:off x="899280" y="4287960"/>
              <a:ext cx="651600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3"/>
            <p:cNvSpPr/>
            <p:nvPr/>
          </p:nvSpPr>
          <p:spPr>
            <a:xfrm>
              <a:off x="1928520" y="4287960"/>
              <a:ext cx="1143000" cy="668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afd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RT-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4"/>
            <p:cNvSpPr/>
            <p:nvPr/>
          </p:nvSpPr>
          <p:spPr>
            <a:xfrm>
              <a:off x="2042280" y="5940000"/>
              <a:ext cx="3200760" cy="52020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° giorno               2° giorno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5"/>
            <p:cNvSpPr/>
            <p:nvPr/>
          </p:nvSpPr>
          <p:spPr>
            <a:xfrm>
              <a:off x="6729480" y="5067000"/>
              <a:ext cx="114120" cy="826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6"/>
            <p:cNvSpPr/>
            <p:nvPr/>
          </p:nvSpPr>
          <p:spPr>
            <a:xfrm>
              <a:off x="811080" y="50670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LD-FRT     (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40cGy /fraction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7"/>
            <p:cNvSpPr/>
            <p:nvPr/>
          </p:nvSpPr>
          <p:spPr>
            <a:xfrm>
              <a:off x="2614680" y="5067000"/>
              <a:ext cx="114120" cy="826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8"/>
            <p:cNvSpPr/>
            <p:nvPr/>
          </p:nvSpPr>
          <p:spPr>
            <a:xfrm>
              <a:off x="3071880" y="5067000"/>
              <a:ext cx="114120" cy="826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9"/>
            <p:cNvSpPr/>
            <p:nvPr/>
          </p:nvSpPr>
          <p:spPr>
            <a:xfrm>
              <a:off x="3986280" y="5067000"/>
              <a:ext cx="114120" cy="826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4443120" y="5067000"/>
              <a:ext cx="114120" cy="826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1"/>
            <p:cNvSpPr/>
            <p:nvPr/>
          </p:nvSpPr>
          <p:spPr>
            <a:xfrm>
              <a:off x="4671720" y="5289120"/>
              <a:ext cx="1943280" cy="33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1 gior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2"/>
            <p:cNvSpPr/>
            <p:nvPr/>
          </p:nvSpPr>
          <p:spPr>
            <a:xfrm>
              <a:off x="2600640" y="5185440"/>
              <a:ext cx="5713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3"/>
            <p:cNvSpPr/>
            <p:nvPr/>
          </p:nvSpPr>
          <p:spPr>
            <a:xfrm>
              <a:off x="2728440" y="5622840"/>
              <a:ext cx="342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34"/>
            <p:cNvSpPr/>
            <p:nvPr/>
          </p:nvSpPr>
          <p:spPr>
            <a:xfrm>
              <a:off x="1242000" y="6290640"/>
              <a:ext cx="5944320" cy="55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5"/>
            <p:cNvSpPr/>
            <p:nvPr/>
          </p:nvSpPr>
          <p:spPr>
            <a:xfrm>
              <a:off x="4072680" y="4986720"/>
              <a:ext cx="45720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6"/>
            <p:cNvSpPr/>
            <p:nvPr/>
          </p:nvSpPr>
          <p:spPr>
            <a:xfrm>
              <a:off x="4100040" y="5622840"/>
              <a:ext cx="342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37"/>
          <p:cNvSpPr/>
          <p:nvPr/>
        </p:nvSpPr>
        <p:spPr>
          <a:xfrm>
            <a:off x="3203640" y="4292640"/>
            <a:ext cx="3611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CT  1° gio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Myocet   50 mg/m</a:t>
            </a:r>
            <a:r>
              <a:rPr b="1" lang="it-IT" sz="1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Taxotere 75 mg/m</a:t>
            </a:r>
            <a:r>
              <a:rPr b="1" lang="it-IT" sz="12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8"/>
          <p:cNvSpPr/>
          <p:nvPr/>
        </p:nvSpPr>
        <p:spPr>
          <a:xfrm>
            <a:off x="4630680" y="4478400"/>
            <a:ext cx="216000" cy="433440"/>
          </a:xfrm>
          <a:custGeom>
            <a:avLst/>
            <a:gdLst>
              <a:gd name="textAreaLeft" fmla="*/ 0 w 216000"/>
              <a:gd name="textAreaRight" fmla="*/ 78120 w 216000"/>
              <a:gd name="textAreaTop" fmla="*/ 11160 h 433440"/>
              <a:gd name="textAreaBottom" fmla="*/ 4222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9"/>
          <p:cNvSpPr/>
          <p:nvPr/>
        </p:nvSpPr>
        <p:spPr>
          <a:xfrm>
            <a:off x="4905360" y="4549680"/>
            <a:ext cx="13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al 1°al 6°cic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755640" y="5796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T: 6 split cour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4"/>
          <p:cNvSpPr/>
          <p:nvPr/>
        </p:nvSpPr>
        <p:spPr>
          <a:xfrm>
            <a:off x="1041840" y="62373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333399"/>
                </a:solidFill>
                <a:latin typeface="Arial"/>
              </a:rPr>
              <a:t>960 c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ccia a destra 24"/>
          <p:cNvSpPr/>
          <p:nvPr/>
        </p:nvSpPr>
        <p:spPr>
          <a:xfrm>
            <a:off x="6948360" y="4437000"/>
            <a:ext cx="64800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sellaDiTesto 25"/>
          <p:cNvSpPr/>
          <p:nvPr/>
        </p:nvSpPr>
        <p:spPr>
          <a:xfrm>
            <a:off x="7744320" y="4471920"/>
            <a:ext cx="509760" cy="3682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ccia in giù 26"/>
          <p:cNvSpPr/>
          <p:nvPr/>
        </p:nvSpPr>
        <p:spPr>
          <a:xfrm>
            <a:off x="7785000" y="5057640"/>
            <a:ext cx="432000" cy="5763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sellaDiTesto 27"/>
          <p:cNvSpPr/>
          <p:nvPr/>
        </p:nvSpPr>
        <p:spPr>
          <a:xfrm>
            <a:off x="7034760" y="5832360"/>
            <a:ext cx="1935000" cy="3682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T (Tang 50 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21"/>
          <p:cNvGrpSpPr/>
          <p:nvPr/>
        </p:nvGrpSpPr>
        <p:grpSpPr>
          <a:xfrm>
            <a:off x="1258920" y="1557360"/>
            <a:ext cx="5943600" cy="2558880"/>
            <a:chOff x="1258920" y="1557360"/>
            <a:chExt cx="5943600" cy="2558880"/>
          </a:xfrm>
        </p:grpSpPr>
        <p:sp>
          <p:nvSpPr>
            <p:cNvPr id="145" name="Rectangle 23"/>
            <p:cNvSpPr/>
            <p:nvPr/>
          </p:nvSpPr>
          <p:spPr>
            <a:xfrm>
              <a:off x="1944360" y="1557360"/>
              <a:ext cx="1143000" cy="668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afd00"/>
              </a:solidFill>
              <a:miter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4"/>
            <p:cNvSpPr/>
            <p:nvPr/>
          </p:nvSpPr>
          <p:spPr>
            <a:xfrm>
              <a:off x="1258920" y="3560040"/>
              <a:ext cx="5943600" cy="55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37"/>
          <p:cNvSpPr/>
          <p:nvPr/>
        </p:nvSpPr>
        <p:spPr>
          <a:xfrm>
            <a:off x="3203640" y="1557360"/>
            <a:ext cx="3611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CT  1° gio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Adriamicina 75 mg/m</a:t>
            </a:r>
            <a:r>
              <a:rPr b="1" lang="it-IT" sz="1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Taxotere 75 mg/m</a:t>
            </a:r>
            <a:r>
              <a:rPr b="1" lang="it-IT" sz="12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539640" y="476280"/>
            <a:ext cx="7848720" cy="9144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CHEDULE DI TRAT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8"/>
          <p:cNvSpPr/>
          <p:nvPr/>
        </p:nvSpPr>
        <p:spPr>
          <a:xfrm>
            <a:off x="5008680" y="1773360"/>
            <a:ext cx="215640" cy="433440"/>
          </a:xfrm>
          <a:custGeom>
            <a:avLst/>
            <a:gdLst>
              <a:gd name="textAreaLeft" fmla="*/ 0 w 215640"/>
              <a:gd name="textAreaRight" fmla="*/ 77760 w 215640"/>
              <a:gd name="textAreaTop" fmla="*/ 11160 h 433440"/>
              <a:gd name="textAreaBottom" fmla="*/ 4222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9"/>
          <p:cNvSpPr/>
          <p:nvPr/>
        </p:nvSpPr>
        <p:spPr>
          <a:xfrm>
            <a:off x="5283360" y="1844640"/>
            <a:ext cx="130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6°ci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ccia a destra 52"/>
          <p:cNvSpPr/>
          <p:nvPr/>
        </p:nvSpPr>
        <p:spPr>
          <a:xfrm>
            <a:off x="6948360" y="1700280"/>
            <a:ext cx="648000" cy="433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sellaDiTesto 53"/>
          <p:cNvSpPr/>
          <p:nvPr/>
        </p:nvSpPr>
        <p:spPr>
          <a:xfrm>
            <a:off x="7744320" y="1763640"/>
            <a:ext cx="509760" cy="3682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ccia in giù 54"/>
          <p:cNvSpPr/>
          <p:nvPr/>
        </p:nvSpPr>
        <p:spPr>
          <a:xfrm>
            <a:off x="7785000" y="2335320"/>
            <a:ext cx="432000" cy="5760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asellaDiTesto 55"/>
          <p:cNvSpPr/>
          <p:nvPr/>
        </p:nvSpPr>
        <p:spPr>
          <a:xfrm>
            <a:off x="7041240" y="3068640"/>
            <a:ext cx="1922760" cy="6426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T (Tang 50 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+ Boost 10 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79280" y="1962000"/>
            <a:ext cx="44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MULAZIONE: palpazione e disegno in cute dell’area tumo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onamnano"/>
          <p:cNvPicPr/>
          <p:nvPr/>
        </p:nvPicPr>
        <p:blipFill>
          <a:blip r:embed="rId2"/>
          <a:stretch/>
        </p:blipFill>
        <p:spPr>
          <a:xfrm>
            <a:off x="179280" y="2924280"/>
            <a:ext cx="4254480" cy="2789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1"/>
          <p:cNvSpPr/>
          <p:nvPr/>
        </p:nvSpPr>
        <p:spPr>
          <a:xfrm>
            <a:off x="539640" y="476280"/>
            <a:ext cx="7848720" cy="9144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MUL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3"/>
          <a:stretch/>
        </p:blipFill>
        <p:spPr>
          <a:xfrm>
            <a:off x="5148360" y="2924280"/>
            <a:ext cx="3527280" cy="280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4788000" y="1989000"/>
            <a:ext cx="44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MULAZIONE: disegno in cute del quadr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539640" y="476280"/>
            <a:ext cx="7848720" cy="9144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TORN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cont ok1"/>
          <p:cNvPicPr/>
          <p:nvPr/>
        </p:nvPicPr>
        <p:blipFill>
          <a:blip r:embed="rId1"/>
          <a:srcRect l="0" t="1453" r="33708" b="0"/>
          <a:stretch/>
        </p:blipFill>
        <p:spPr>
          <a:xfrm>
            <a:off x="196920" y="2114640"/>
            <a:ext cx="3960720" cy="455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F:\boost clips.bmp"/>
          <p:cNvPicPr/>
          <p:nvPr/>
        </p:nvPicPr>
        <p:blipFill>
          <a:blip r:embed="rId2"/>
          <a:srcRect l="16065" t="5509" r="0" b="24800"/>
          <a:stretch/>
        </p:blipFill>
        <p:spPr>
          <a:xfrm>
            <a:off x="4270320" y="2565360"/>
            <a:ext cx="4670640" cy="29084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611280" y="16635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TV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CTV + 0.5-1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20:11:36Z</dcterms:created>
  <dc:creator>x</dc:creator>
  <dc:description/>
  <dc:language>en-US</dc:language>
  <cp:lastModifiedBy>tecno</cp:lastModifiedBy>
  <dcterms:modified xsi:type="dcterms:W3CDTF">2010-11-14T12:05:09Z</dcterms:modified>
  <cp:revision>121</cp:revision>
  <dc:subject/>
  <dc:title>Diapositiva 1</dc:title>
</cp:coreProperties>
</file>