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9360"/>
            <a:ext cx="9132480" cy="6839280"/>
            <a:chOff x="0" y="9360"/>
            <a:chExt cx="9132480" cy="6839280"/>
          </a:xfrm>
        </p:grpSpPr>
        <p:sp>
          <p:nvSpPr>
            <p:cNvPr id="1" name="Freeform 2"/>
            <p:cNvSpPr/>
            <p:nvPr/>
          </p:nvSpPr>
          <p:spPr>
            <a:xfrm>
              <a:off x="5387400" y="1585800"/>
              <a:ext cx="3745080" cy="5261040"/>
            </a:xfrm>
            <a:custGeom>
              <a:avLst/>
              <a:gdLst/>
              <a:ahLst/>
              <a:rect l="l" t="t" r="r" b="b"/>
              <a:pathLst>
                <a:path w="2654" h="3314">
                  <a:moveTo>
                    <a:pt x="2143" y="3312"/>
                  </a:moveTo>
                  <a:lnTo>
                    <a:pt x="2653" y="3313"/>
                  </a:lnTo>
                  <a:lnTo>
                    <a:pt x="2653" y="1437"/>
                  </a:lnTo>
                  <a:lnTo>
                    <a:pt x="0" y="0"/>
                  </a:lnTo>
                  <a:lnTo>
                    <a:pt x="226" y="150"/>
                  </a:lnTo>
                  <a:lnTo>
                    <a:pt x="412" y="279"/>
                  </a:lnTo>
                  <a:lnTo>
                    <a:pt x="621" y="441"/>
                  </a:lnTo>
                  <a:lnTo>
                    <a:pt x="824" y="612"/>
                  </a:lnTo>
                  <a:lnTo>
                    <a:pt x="1121" y="903"/>
                  </a:lnTo>
                  <a:lnTo>
                    <a:pt x="1384" y="1212"/>
                  </a:lnTo>
                  <a:lnTo>
                    <a:pt x="1575" y="1482"/>
                  </a:lnTo>
                  <a:lnTo>
                    <a:pt x="1742" y="1761"/>
                  </a:lnTo>
                  <a:lnTo>
                    <a:pt x="1873" y="2040"/>
                  </a:lnTo>
                  <a:lnTo>
                    <a:pt x="1970" y="2295"/>
                  </a:lnTo>
                  <a:lnTo>
                    <a:pt x="2035" y="2511"/>
                  </a:lnTo>
                  <a:lnTo>
                    <a:pt x="2096" y="2778"/>
                  </a:lnTo>
                  <a:lnTo>
                    <a:pt x="2126" y="3012"/>
                  </a:lnTo>
                  <a:lnTo>
                    <a:pt x="2143" y="3312"/>
                  </a:lnTo>
                </a:path>
              </a:pathLst>
            </a:custGeom>
            <a:gradFill rotWithShape="0">
              <a:gsLst>
                <a:gs pos="0">
                  <a:srgbClr val="0000e5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9360"/>
              <a:ext cx="8404200" cy="6839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" y="0"/>
                  </a:moveTo>
                  <a:cubicBezTo>
                    <a:pt x="11942" y="12"/>
                    <a:pt x="21600" y="9679"/>
                    <a:pt x="21600" y="21600"/>
                  </a:cubicBezTo>
                </a:path>
                <a:path stroke="0" w="21600" h="21600">
                  <a:moveTo>
                    <a:pt x="21" y="0"/>
                  </a:moveTo>
                  <a:cubicBezTo>
                    <a:pt x="11942" y="12"/>
                    <a:pt x="21600" y="9679"/>
                    <a:pt x="21600" y="21600"/>
                  </a:cubicBezTo>
                  <a:lnTo>
                    <a:pt x="0" y="21600"/>
                  </a:lnTo>
                  <a:lnTo>
                    <a:pt x="21" y="0"/>
                  </a:lnTo>
                  <a:close/>
                </a:path>
              </a:pathLst>
            </a:custGeom>
            <a:noFill/>
            <a:ln cap="rnd"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320" y="2980800"/>
            <a:ext cx="8343720" cy="35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Integrazione terapeutica nel carcinoma esofageo</a:t>
            </a: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Presentazione di un caso clinco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42" name="Picture 8" descr="airo2010"/>
          <p:cNvPicPr/>
          <p:nvPr/>
        </p:nvPicPr>
        <p:blipFill>
          <a:blip r:embed="rId1"/>
          <a:stretch/>
        </p:blipFill>
        <p:spPr>
          <a:xfrm>
            <a:off x="0" y="0"/>
            <a:ext cx="914400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04920" y="228600"/>
            <a:ext cx="857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rebuchet MS"/>
              </a:rPr>
              <a:t>Caso clinico, PET/TC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2" name="Picture 3" descr="PETok2"/>
          <p:cNvPicPr/>
          <p:nvPr/>
        </p:nvPicPr>
        <p:blipFill>
          <a:blip r:embed="rId1"/>
          <a:stretch/>
        </p:blipFill>
        <p:spPr>
          <a:xfrm>
            <a:off x="1039680" y="1036800"/>
            <a:ext cx="6747120" cy="57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72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Integrazione terapeutica nel carcinoma esofageo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47840" y="1039680"/>
            <a:ext cx="761652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Stadio Clinico: T3 N0-1 M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rebuchet MS"/>
              </a:rPr>
              <a:t>Quale opzione terapeutica sceglieresti 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hirurgia ± Terapie adiuvanti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RTCT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 Chirurg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T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 Chirurg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RTCT esclusiva a finalità radic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773760" y="6237360"/>
            <a:ext cx="216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Domanda n°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72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Integrazione terapeutica nel carcinoma esofageo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47840" y="1039680"/>
            <a:ext cx="84042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rebuchet MS"/>
              </a:rPr>
              <a:t>Dopo le relazioni, quale opzione terapeutica sceglieresti 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hirurgia ± Terapie adiuvanti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RTCT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 Chirurg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T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 Chirurg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RTCT esclusiva a finalità radic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773760" y="6237360"/>
            <a:ext cx="216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Domanda n°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72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Integrazione terapeutica nel carcinoma esofageo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47840" y="1039680"/>
            <a:ext cx="84042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rebuchet MS"/>
              </a:rPr>
              <a:t>Dopo la discussione, quale è la tua scelta terapeutica 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hirurgia ± Terapie adiuvanti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RTCT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 Chirurg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T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 Chirurg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RTCT esclusiva a finalità radic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773760" y="6237360"/>
            <a:ext cx="216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Domanda n°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72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Integrazione terapeutica nel carcinoma esofageo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8600" y="1039680"/>
            <a:ext cx="8724960" cy="59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ff33"/>
                </a:solidFill>
                <a:latin typeface="Trebuchet MS"/>
              </a:rPr>
              <a:t>Caso Clinico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Uomo di 52 anni, ECOG 0, con disfagia da circa 3 mesi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Esegue EGDS che mostra la presenza di tessuto neoformato a 27 cm dall’arcata dentale e che si estende per 6 cm circa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Biopsia: positiva per carcinoma squamos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Viene avviato ad esami di primo livell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72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Integrazione terapeutica nel carcinoma esofageo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28600" y="1039680"/>
            <a:ext cx="8724960" cy="57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rebuchet MS"/>
              </a:rPr>
              <a:t>Ematochimici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: ai limiti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rebuchet MS"/>
              </a:rPr>
              <a:t>Marcatori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: CEA: 1.62, Ca19.9: 15.0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ahoma"/>
              </a:rPr>
              <a:t>Spirometria globale con DLC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Quadro nei limiti della norma con volumi polmonari ai limiti inferiori. DlCO ridotta lievemente. Riduzione dei flussi espiratori distali. Sat-O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in aria libera: 92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rebuchet MS"/>
              </a:rPr>
              <a:t>Ecocardiogramma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: ai limiti con FE pari al 60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rebuchet MS"/>
              </a:rPr>
              <a:t>TC body con mdc</a:t>
            </a: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: negativa per lesioni secondarie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04920" y="228600"/>
            <a:ext cx="857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rebuchet MS"/>
              </a:rPr>
              <a:t>Caso clinico, TC torace con mdc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8" name="Picture 9" descr="Immagine04"/>
          <p:cNvPicPr/>
          <p:nvPr/>
        </p:nvPicPr>
        <p:blipFill>
          <a:blip r:embed="rId1"/>
          <a:stretch/>
        </p:blipFill>
        <p:spPr>
          <a:xfrm>
            <a:off x="1042920" y="895320"/>
            <a:ext cx="711036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228600"/>
            <a:ext cx="857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rebuchet MS"/>
              </a:rPr>
              <a:t>Caso clinico, TC torace con mdc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0" name="Picture 4" descr="Immagine01"/>
          <p:cNvPicPr/>
          <p:nvPr/>
        </p:nvPicPr>
        <p:blipFill>
          <a:blip r:embed="rId1"/>
          <a:stretch/>
        </p:blipFill>
        <p:spPr>
          <a:xfrm>
            <a:off x="98280" y="847800"/>
            <a:ext cx="897912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04920" y="228600"/>
            <a:ext cx="857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rebuchet MS"/>
              </a:rPr>
              <a:t>Caso clinico, TC torace con mdc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2" name="Picture 4" descr="Immagine03"/>
          <p:cNvPicPr/>
          <p:nvPr/>
        </p:nvPicPr>
        <p:blipFill>
          <a:blip r:embed="rId1"/>
          <a:stretch/>
        </p:blipFill>
        <p:spPr>
          <a:xfrm>
            <a:off x="1362240" y="852480"/>
            <a:ext cx="6610320" cy="60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04920" y="228600"/>
            <a:ext cx="857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rebuchet MS"/>
              </a:rPr>
              <a:t>Caso clinico, TC torace con mdc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4" name="Picture 4" descr="Immagine05"/>
          <p:cNvPicPr/>
          <p:nvPr/>
        </p:nvPicPr>
        <p:blipFill>
          <a:blip r:embed="rId1"/>
          <a:stretch/>
        </p:blipFill>
        <p:spPr>
          <a:xfrm>
            <a:off x="1004760" y="947880"/>
            <a:ext cx="7134480" cy="58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72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Integrazione terapeutica nel carcinoma esofageo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811080"/>
            <a:ext cx="87249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33"/>
                </a:solidFill>
                <a:latin typeface="Trebuchet MS"/>
              </a:rPr>
              <a:t>Eco-endoscopia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Si procede sotto visione endoscopica sino in DII e si conduce l'esame in retrazione dello strumento  mediante l'instillazione endocavitaria di H2O deareata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7" name="Picture 4" descr="esofago3"/>
          <p:cNvPicPr/>
          <p:nvPr/>
        </p:nvPicPr>
        <p:blipFill>
          <a:blip r:embed="rId1"/>
          <a:srcRect l="13197" t="4880" r="0" b="0"/>
          <a:stretch/>
        </p:blipFill>
        <p:spPr>
          <a:xfrm>
            <a:off x="5052960" y="3354480"/>
            <a:ext cx="3875040" cy="2870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65240" y="2982960"/>
            <a:ext cx="505440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A ca 27 cm dall'o.a. si rileva lesione vegetante anulare che sino ai 35 cm che disorganizza completamente gli strati di parete. Linfoadenopatie pericentimetriche perilesionali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, subcentimetrici della FAP e paratracheali.”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04920" y="228600"/>
            <a:ext cx="857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rebuchet MS"/>
              </a:rPr>
              <a:t>Caso clinico, PET/TC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0" name="Picture 5" descr="PETok1"/>
          <p:cNvPicPr/>
          <p:nvPr/>
        </p:nvPicPr>
        <p:blipFill>
          <a:blip r:embed="rId1"/>
          <a:stretch/>
        </p:blipFill>
        <p:spPr>
          <a:xfrm>
            <a:off x="655560" y="1017720"/>
            <a:ext cx="7908840" cy="573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4T10:17:00Z</dcterms:created>
  <dc:creator>UCSC</dc:creator>
  <dc:description/>
  <cp:keywords/>
  <dc:language>en-US</dc:language>
  <cp:lastModifiedBy>tecno</cp:lastModifiedBy>
  <cp:lastPrinted>2001-04-12T16:54:05Z</cp:lastPrinted>
  <dcterms:modified xsi:type="dcterms:W3CDTF">2010-11-13T16:15:20Z</dcterms:modified>
  <cp:revision>635</cp:revision>
  <dc:subject/>
  <dc:title>Steps del trattamento radiante</dc:title>
</cp:coreProperties>
</file>